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BFB9-FD9A-4E87-88DD-4FF82386B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C47B5-2509-4D49-8DE7-D4FA7734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48BF-48A6-4ECE-9F5D-FDE512937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DB6F-0485-438F-9C87-9B0230807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5A65-7C86-48F1-A45F-DC4EC5C1F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40BF-29D3-4597-B171-FE7D9EE25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BA2C7-CFD5-4CC9-99E5-F847496F8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7AE3A-0516-4162-8102-728428BE9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8AD0-829E-4CBA-951F-592B23A77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7F1F-75AA-4653-A1F7-6DC10B33C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B58C5-E6E7-4622-9AEC-823E219EE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54E6-7D49-4969-9B66-82EF9AD23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3B477-5DD7-4898-84EE-82289E3AA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609480" y="152280"/>
            <a:ext cx="1981440" cy="2438640"/>
            <a:chOff x="609480" y="152280"/>
            <a:chExt cx="1981440" cy="2438640"/>
          </a:xfrm>
        </p:grpSpPr>
        <p:sp>
          <p:nvSpPr>
            <p:cNvPr id="42" name=""/>
            <p:cNvSpPr/>
            <p:nvPr/>
          </p:nvSpPr>
          <p:spPr>
            <a:xfrm>
              <a:off x="1219320" y="1522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152388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828800" y="1066680"/>
              <a:ext cx="457200" cy="6098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133720" y="19810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21932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609480" y="1066680"/>
              <a:ext cx="457200" cy="60984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838080" y="762120"/>
              <a:ext cx="60984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 flipV="1">
              <a:off x="1447560" y="762120"/>
              <a:ext cx="60948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1447920" y="762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5212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 flipV="1">
              <a:off x="2057040" y="1676520"/>
              <a:ext cx="3049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" name=""/>
          <p:cNvGrpSpPr/>
          <p:nvPr/>
        </p:nvGrpSpPr>
        <p:grpSpPr>
          <a:xfrm>
            <a:off x="3581280" y="304920"/>
            <a:ext cx="1066680" cy="1523520"/>
            <a:chOff x="3581280" y="304920"/>
            <a:chExt cx="1066680" cy="1523520"/>
          </a:xfrm>
        </p:grpSpPr>
        <p:sp>
          <p:nvSpPr>
            <p:cNvPr id="54" name=""/>
            <p:cNvSpPr/>
            <p:nvPr/>
          </p:nvSpPr>
          <p:spPr>
            <a:xfrm>
              <a:off x="4190760" y="304920"/>
              <a:ext cx="457200" cy="6094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419076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581280" y="121896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3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809520" y="914400"/>
              <a:ext cx="60948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419360" y="914400"/>
              <a:ext cx="0" cy="304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9" name=""/>
          <p:cNvGrpSpPr/>
          <p:nvPr/>
        </p:nvGrpSpPr>
        <p:grpSpPr>
          <a:xfrm>
            <a:off x="3505320" y="228600"/>
            <a:ext cx="1675800" cy="2438280"/>
            <a:chOff x="3505320" y="228600"/>
            <a:chExt cx="1675800" cy="2438280"/>
          </a:xfrm>
        </p:grpSpPr>
        <p:sp>
          <p:nvSpPr>
            <p:cNvPr id="60" name=""/>
            <p:cNvSpPr/>
            <p:nvPr/>
          </p:nvSpPr>
          <p:spPr>
            <a:xfrm>
              <a:off x="4114800" y="2286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419360" y="20574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724280" y="1143000"/>
              <a:ext cx="456840" cy="6094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1480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z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05320" y="1143000"/>
              <a:ext cx="456840" cy="609480"/>
            </a:xfrm>
            <a:prstGeom prst="foldedCorner">
              <a:avLst>
                <a:gd name="adj" fmla="val 21875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3733200" y="83808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 flipV="1">
              <a:off x="4343400" y="837720"/>
              <a:ext cx="6091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343400" y="838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4647960" y="175248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" name=""/>
          <p:cNvGrpSpPr/>
          <p:nvPr/>
        </p:nvGrpSpPr>
        <p:grpSpPr>
          <a:xfrm>
            <a:off x="3429000" y="152280"/>
            <a:ext cx="1981080" cy="2438280"/>
            <a:chOff x="3429000" y="152280"/>
            <a:chExt cx="1981080" cy="2438280"/>
          </a:xfrm>
        </p:grpSpPr>
        <p:sp>
          <p:nvSpPr>
            <p:cNvPr id="70" name=""/>
            <p:cNvSpPr/>
            <p:nvPr/>
          </p:nvSpPr>
          <p:spPr>
            <a:xfrm>
              <a:off x="4038480" y="1522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f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34340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648320" y="1066680"/>
              <a:ext cx="457200" cy="609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loo/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952880" y="19810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itty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429000" y="1066680"/>
              <a:ext cx="457200" cy="609480"/>
            </a:xfrm>
            <a:prstGeom prst="foldedCorner">
              <a:avLst>
                <a:gd name="adj" fmla="val 2187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r:5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3657240" y="761760"/>
              <a:ext cx="6094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flipV="1">
              <a:off x="4267080" y="761400"/>
              <a:ext cx="60984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4571640" y="167616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flipV="1">
              <a:off x="4876920" y="167580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19T06:22:52Z</dcterms:created>
  <dc:creator>C. Michael (Mike) Pilato</dc:creator>
  <dc:description/>
  <dc:language>en-US</dc:language>
  <cp:lastModifiedBy>C. Michael (Mike) Pilato</cp:lastModifiedBy>
  <dcterms:modified xsi:type="dcterms:W3CDTF">2002-10-19T06:53:19Z</dcterms:modified>
  <cp:revision>1</cp:revision>
  <dc:subject/>
  <dc:title>No Slide Title</dc:title>
</cp:coreProperties>
</file>