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AE44C-F78F-4872-BE5B-A38357349C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entralized client-serve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PROBL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LOCK-MODIFY-UNLOCK MOD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PY-MODIFY-MERGE MODEL, pag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EBCD7-470D-474F-8DFB-D64B2B6F5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D38E-C2D2-4FF0-A29D-D59399A88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1BD1-C63C-4D9D-AA19-0EAD29B0E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C6C8-2DEB-46F1-A626-50919E93A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B125-D59C-4342-A00C-5F4EF31FA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23BA8-60FC-4470-BE8E-AA7CDCDFB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2CA3-9FBA-46C4-8C9C-BD3BCBF23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59DF9-6BB9-4AA3-A10E-7E705ECD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41A30-5970-4AFA-A037-1B095929E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13C9A-2CF9-422C-96FD-1587345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F1287-BEBA-4305-87A7-4E68813B9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7C97-7198-4A8E-B486-88A0BA9B1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291B2-BF7C-459F-A6FE-8D9C6B3E7F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747960" y="192888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41640" y="148428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043600" y="2919240"/>
            <a:ext cx="974520" cy="87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247200" y="3228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579280" y="3220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35480" y="40528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444920" y="37288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68272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817720" y="3716280"/>
            <a:ext cx="76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70440" y="40384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975280" y="372744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654440" y="2944800"/>
            <a:ext cx="36720" cy="83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664880" y="3219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3411360" y="2933280"/>
            <a:ext cx="744840" cy="85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112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406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73520" y="2960640"/>
            <a:ext cx="255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read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863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8818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618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35772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093680" y="480528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942120" y="4881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60760" y="6342120"/>
            <a:ext cx="283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publishes his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2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918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H="1" flipV="1">
            <a:off x="71784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408080" y="48704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01400" y="6330960"/>
            <a:ext cx="392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accidentally overwrites Harry’s version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6656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3955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 flipV="1">
            <a:off x="1138320" y="47844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34120" y="490860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23280" y="2936880"/>
            <a:ext cx="3966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“locks” file A, then copies it for editin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4172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8706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939920" y="2949480"/>
            <a:ext cx="380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hile Harry edits, Sally’s lock attempt fail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176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37968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64240" y="6351480"/>
            <a:ext cx="401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writes his version, then releases his lock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9449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90740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308720" y="477036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7573320" y="48355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650120" y="6354720"/>
            <a:ext cx="445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Sally can lock, read, and edit the latest ver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HH00272_" descr=""/>
          <p:cNvPicPr/>
          <p:nvPr/>
        </p:nvPicPr>
        <p:blipFill>
          <a:blip r:embed="rId1"/>
          <a:stretch/>
        </p:blipFill>
        <p:spPr>
          <a:xfrm>
            <a:off x="1893960" y="73656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1332000" y="4794120"/>
            <a:ext cx="609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607760" y="5019840"/>
            <a:ext cx="91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N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H="1" flipV="1">
            <a:off x="7142040" y="145548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68360" y="144792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221600" y="1676520"/>
            <a:ext cx="531720" cy="27144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7256160" y="1650960"/>
            <a:ext cx="438120" cy="3096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HH00272_" descr=""/>
          <p:cNvPicPr/>
          <p:nvPr/>
        </p:nvPicPr>
        <p:blipFill>
          <a:blip r:embed="rId2"/>
          <a:stretch/>
        </p:blipFill>
        <p:spPr>
          <a:xfrm>
            <a:off x="6392880" y="735120"/>
            <a:ext cx="223920" cy="36036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flipV="1">
            <a:off x="1171440" y="140940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27560" y="148608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353960" y="1419120"/>
            <a:ext cx="60984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17120" y="16444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H="1" flipV="1">
            <a:off x="7162560" y="482580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847560" y="5059440"/>
            <a:ext cx="663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HH00272_" descr=""/>
          <p:cNvPicPr/>
          <p:nvPr/>
        </p:nvPicPr>
        <p:blipFill>
          <a:blip r:embed="rId3"/>
          <a:stretch/>
        </p:blipFill>
        <p:spPr>
          <a:xfrm>
            <a:off x="6391440" y="4070520"/>
            <a:ext cx="2235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88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42900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14479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89656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049760" y="2960640"/>
            <a:ext cx="260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wo users copy the same fi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96404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859880" y="18288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36560" y="2973240"/>
            <a:ext cx="3120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both begin to edit their copi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43956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335400" y="5186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 flipH="1" flipV="1">
            <a:off x="2673000" y="48160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959560" y="492768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905400" y="6342120"/>
            <a:ext cx="280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ally publishes her version firs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007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89624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467320" y="6330960"/>
            <a:ext cx="291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gets an “out-of-date” error!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5670720" y="478116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267880" y="48578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02400" y="4954680"/>
            <a:ext cx="447480" cy="295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5678280" y="5000760"/>
            <a:ext cx="533160" cy="2379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0" y="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572000" y="342900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37160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56528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80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0004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27672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39552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142640" y="144792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91440" y="152388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69440" y="2960640"/>
            <a:ext cx="3855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rry compares the latest version to his ow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846760" y="45720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40440" y="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85604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97520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751880" y="2133720"/>
            <a:ext cx="914400" cy="5331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70680" y="181764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0200" y="2960640"/>
            <a:ext cx="294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 new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erged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version is creat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22280" y="381492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515960" y="335772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3192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072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227400" y="549108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346560" y="517536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10440" y="4792680"/>
            <a:ext cx="60948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497000" y="4903920"/>
            <a:ext cx="48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84800" y="6342120"/>
            <a:ext cx="28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 merged version is publish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83120" y="3803760"/>
            <a:ext cx="18288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076800" y="3346560"/>
            <a:ext cx="14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89276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1156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ar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88240" y="5479920"/>
            <a:ext cx="914400" cy="53352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907400" y="516420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all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31440" y="6343560"/>
            <a:ext cx="3682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w both users have each others’ chang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 flipV="1">
            <a:off x="1117440" y="4806720"/>
            <a:ext cx="60984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965880" y="4883040"/>
            <a:ext cx="547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File"/>
          <p:cNvSpPr/>
          <p:nvPr/>
        </p:nvSpPr>
        <p:spPr>
          <a:xfrm>
            <a:off x="3824280" y="105264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ile"/>
          <p:cNvSpPr/>
          <p:nvPr/>
        </p:nvSpPr>
        <p:spPr>
          <a:xfrm>
            <a:off x="3833640" y="377676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ai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File"/>
          <p:cNvSpPr/>
          <p:nvPr/>
        </p:nvSpPr>
        <p:spPr>
          <a:xfrm>
            <a:off x="2919240" y="476280"/>
            <a:ext cx="809640" cy="466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6" name=""/>
          <p:cNvCxnSpPr>
            <a:stCxn id="235" idx="6"/>
            <a:endCxn id="234" idx="6"/>
          </p:cNvCxnSpPr>
          <p:nvPr/>
        </p:nvCxnSpPr>
        <p:spPr>
          <a:xfrm flipH="1" rot="16200000">
            <a:off x="2044440" y="2221560"/>
            <a:ext cx="3067920" cy="510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7" name=""/>
          <p:cNvCxnSpPr>
            <a:stCxn id="235" idx="7"/>
            <a:endCxn id="233" idx="6"/>
          </p:cNvCxnSpPr>
          <p:nvPr/>
        </p:nvCxnSpPr>
        <p:spPr>
          <a:xfrm flipH="1" rot="16200000">
            <a:off x="3401640" y="864000"/>
            <a:ext cx="343800" cy="500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8" name="Document"/>
          <p:cNvSpPr/>
          <p:nvPr/>
        </p:nvSpPr>
        <p:spPr>
          <a:xfrm>
            <a:off x="4781520" y="159552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Document"/>
          <p:cNvSpPr/>
          <p:nvPr/>
        </p:nvSpPr>
        <p:spPr>
          <a:xfrm>
            <a:off x="4791240" y="2390760"/>
            <a:ext cx="40932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Document"/>
          <p:cNvSpPr/>
          <p:nvPr/>
        </p:nvSpPr>
        <p:spPr>
          <a:xfrm>
            <a:off x="4805280" y="317664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222880" y="172872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232240" y="252396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teger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246640" y="330984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tton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33" idx="7"/>
            <a:endCxn id="240" idx="8"/>
          </p:cNvCxnSpPr>
          <p:nvPr/>
        </p:nvCxnSpPr>
        <p:spPr>
          <a:xfrm flipH="1" rot="16200000">
            <a:off x="3551040" y="219600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5" name=""/>
          <p:cNvCxnSpPr>
            <a:stCxn id="233" idx="8"/>
            <a:endCxn id="239" idx="8"/>
          </p:cNvCxnSpPr>
          <p:nvPr/>
        </p:nvCxnSpPr>
        <p:spPr>
          <a:xfrm flipH="1" rot="16200000">
            <a:off x="3936960" y="1810440"/>
            <a:ext cx="1146960" cy="5641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6" name=""/>
          <p:cNvCxnSpPr>
            <a:stCxn id="233" idx="9"/>
            <a:endCxn id="238" idx="8"/>
          </p:cNvCxnSpPr>
          <p:nvPr/>
        </p:nvCxnSpPr>
        <p:spPr>
          <a:xfrm flipH="1" rot="16200000">
            <a:off x="4330800" y="1417320"/>
            <a:ext cx="351360" cy="55404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47" name="Document"/>
          <p:cNvSpPr/>
          <p:nvPr/>
        </p:nvSpPr>
        <p:spPr>
          <a:xfrm>
            <a:off x="4776840" y="436248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Document"/>
          <p:cNvSpPr/>
          <p:nvPr/>
        </p:nvSpPr>
        <p:spPr>
          <a:xfrm>
            <a:off x="4786200" y="5157720"/>
            <a:ext cx="409680" cy="547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4800600" y="5943600"/>
            <a:ext cx="409680" cy="54756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218200" y="4495680"/>
            <a:ext cx="102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ake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227560" y="5291280"/>
            <a:ext cx="142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vas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41960" y="6076800"/>
            <a:ext cx="127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rush.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3" name=""/>
          <p:cNvCxnSpPr>
            <a:endCxn id="249" idx="8"/>
          </p:cNvCxnSpPr>
          <p:nvPr/>
        </p:nvCxnSpPr>
        <p:spPr>
          <a:xfrm flipH="1" rot="16200000">
            <a:off x="3546000" y="4962960"/>
            <a:ext cx="1932840" cy="578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4" name=""/>
          <p:cNvCxnSpPr>
            <a:endCxn id="248" idx="8"/>
          </p:cNvCxnSpPr>
          <p:nvPr/>
        </p:nvCxnSpPr>
        <p:spPr>
          <a:xfrm flipH="1" rot="16200000">
            <a:off x="3933000" y="4577040"/>
            <a:ext cx="1146960" cy="5644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55" name=""/>
          <p:cNvCxnSpPr>
            <a:endCxn id="247" idx="8"/>
          </p:cNvCxnSpPr>
          <p:nvPr/>
        </p:nvCxnSpPr>
        <p:spPr>
          <a:xfrm flipH="1" rot="16200000">
            <a:off x="4325040" y="4183920"/>
            <a:ext cx="351360" cy="554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6" name=""/>
          <p:cNvGrpSpPr/>
          <p:nvPr/>
        </p:nvGrpSpPr>
        <p:grpSpPr>
          <a:xfrm>
            <a:off x="3975120" y="1746360"/>
            <a:ext cx="1151640" cy="2534040"/>
            <a:chOff x="3975120" y="1746360"/>
            <a:chExt cx="1151640" cy="2534040"/>
          </a:xfrm>
        </p:grpSpPr>
        <p:sp>
          <p:nvSpPr>
            <p:cNvPr id="257" name="File"/>
            <p:cNvSpPr/>
            <p:nvPr/>
          </p:nvSpPr>
          <p:spPr>
            <a:xfrm>
              <a:off x="3975120" y="1746360"/>
              <a:ext cx="40680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File"/>
            <p:cNvSpPr/>
            <p:nvPr/>
          </p:nvSpPr>
          <p:spPr>
            <a:xfrm>
              <a:off x="4430880" y="2076840"/>
              <a:ext cx="40320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File"/>
            <p:cNvSpPr/>
            <p:nvPr/>
          </p:nvSpPr>
          <p:spPr>
            <a:xfrm>
              <a:off x="4433760" y="3635280"/>
              <a:ext cx="406080" cy="266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0" name=""/>
            <p:cNvCxnSpPr>
              <a:stCxn id="257" idx="6"/>
              <a:endCxn id="259" idx="6"/>
            </p:cNvCxnSpPr>
            <p:nvPr/>
          </p:nvCxnSpPr>
          <p:spPr>
            <a:xfrm flipH="1" rot="16200000">
              <a:off x="3427920" y="2762280"/>
              <a:ext cx="1755000" cy="257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7" idx="7"/>
              <a:endCxn id="258" idx="6"/>
            </p:cNvCxnSpPr>
            <p:nvPr/>
          </p:nvCxnSpPr>
          <p:spPr>
            <a:xfrm flipH="1" rot="16200000">
              <a:off x="4205880" y="1984680"/>
              <a:ext cx="196560" cy="2541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2" name="Document"/>
            <p:cNvSpPr/>
            <p:nvPr/>
          </p:nvSpPr>
          <p:spPr>
            <a:xfrm>
              <a:off x="4908600" y="23850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Document"/>
            <p:cNvSpPr/>
            <p:nvPr/>
          </p:nvSpPr>
          <p:spPr>
            <a:xfrm>
              <a:off x="4915080" y="2841120"/>
              <a:ext cx="20484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Document"/>
            <p:cNvSpPr/>
            <p:nvPr/>
          </p:nvSpPr>
          <p:spPr>
            <a:xfrm>
              <a:off x="4921920" y="3290400"/>
              <a:ext cx="204840" cy="3146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5" name=""/>
            <p:cNvCxnSpPr>
              <a:stCxn id="258" idx="7"/>
              <a:endCxn id="264" idx="8"/>
            </p:cNvCxnSpPr>
            <p:nvPr/>
          </p:nvCxnSpPr>
          <p:spPr>
            <a:xfrm flipH="1" rot="16200000">
              <a:off x="4224960" y="2749680"/>
              <a:ext cx="1103040" cy="290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6" name=""/>
            <p:cNvCxnSpPr>
              <a:stCxn id="258" idx="8"/>
              <a:endCxn id="263" idx="8"/>
            </p:cNvCxnSpPr>
            <p:nvPr/>
          </p:nvCxnSpPr>
          <p:spPr>
            <a:xfrm flipH="1" rot="16200000">
              <a:off x="4447080" y="2527920"/>
              <a:ext cx="65340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7" name=""/>
            <p:cNvCxnSpPr>
              <a:stCxn id="258" idx="9"/>
              <a:endCxn id="262" idx="8"/>
            </p:cNvCxnSpPr>
            <p:nvPr/>
          </p:nvCxnSpPr>
          <p:spPr>
            <a:xfrm flipH="1" rot="16200000">
              <a:off x="4670280" y="230508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68" name="Document"/>
            <p:cNvSpPr/>
            <p:nvPr/>
          </p:nvSpPr>
          <p:spPr>
            <a:xfrm>
              <a:off x="4905720" y="3969360"/>
              <a:ext cx="207720" cy="31104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9" name=""/>
            <p:cNvCxnSpPr>
              <a:endCxn id="268" idx="8"/>
            </p:cNvCxnSpPr>
            <p:nvPr/>
          </p:nvCxnSpPr>
          <p:spPr>
            <a:xfrm flipH="1" rot="16200000">
              <a:off x="4665240" y="3884400"/>
              <a:ext cx="200880" cy="2808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70" name=""/>
          <p:cNvGrpSpPr/>
          <p:nvPr/>
        </p:nvGrpSpPr>
        <p:grpSpPr>
          <a:xfrm>
            <a:off x="5176800" y="1755720"/>
            <a:ext cx="1152360" cy="3443040"/>
            <a:chOff x="5176800" y="1755720"/>
            <a:chExt cx="1152360" cy="3443040"/>
          </a:xfrm>
        </p:grpSpPr>
        <p:sp>
          <p:nvSpPr>
            <p:cNvPr id="271" name="File"/>
            <p:cNvSpPr/>
            <p:nvPr/>
          </p:nvSpPr>
          <p:spPr>
            <a:xfrm>
              <a:off x="5176800" y="175572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File"/>
            <p:cNvSpPr/>
            <p:nvPr/>
          </p:nvSpPr>
          <p:spPr>
            <a:xfrm>
              <a:off x="5631120" y="208548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File"/>
            <p:cNvSpPr/>
            <p:nvPr/>
          </p:nvSpPr>
          <p:spPr>
            <a:xfrm>
              <a:off x="5635800" y="364500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4" name=""/>
            <p:cNvCxnSpPr>
              <a:stCxn id="271" idx="6"/>
              <a:endCxn id="273" idx="6"/>
            </p:cNvCxnSpPr>
            <p:nvPr/>
          </p:nvCxnSpPr>
          <p:spPr>
            <a:xfrm flipH="1" rot="16200000">
              <a:off x="4629600" y="2772360"/>
              <a:ext cx="1756440" cy="25596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5" name=""/>
            <p:cNvCxnSpPr>
              <a:stCxn id="271" idx="7"/>
              <a:endCxn id="272" idx="6"/>
            </p:cNvCxnSpPr>
            <p:nvPr/>
          </p:nvCxnSpPr>
          <p:spPr>
            <a:xfrm flipH="1" rot="16200000">
              <a:off x="5406120" y="1994760"/>
              <a:ext cx="196920" cy="2516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6" name="Document"/>
            <p:cNvSpPr/>
            <p:nvPr/>
          </p:nvSpPr>
          <p:spPr>
            <a:xfrm>
              <a:off x="6111720" y="23961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Document"/>
            <p:cNvSpPr/>
            <p:nvPr/>
          </p:nvSpPr>
          <p:spPr>
            <a:xfrm>
              <a:off x="6116760" y="2851560"/>
              <a:ext cx="20520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Document"/>
            <p:cNvSpPr/>
            <p:nvPr/>
          </p:nvSpPr>
          <p:spPr>
            <a:xfrm>
              <a:off x="6123600" y="3301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79" name=""/>
            <p:cNvCxnSpPr>
              <a:stCxn id="272" idx="7"/>
              <a:endCxn id="278" idx="8"/>
            </p:cNvCxnSpPr>
            <p:nvPr/>
          </p:nvCxnSpPr>
          <p:spPr>
            <a:xfrm flipH="1" rot="16200000">
              <a:off x="5426640" y="2760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0" name=""/>
            <p:cNvCxnSpPr>
              <a:stCxn id="272" idx="8"/>
              <a:endCxn id="277" idx="8"/>
            </p:cNvCxnSpPr>
            <p:nvPr/>
          </p:nvCxnSpPr>
          <p:spPr>
            <a:xfrm flipH="1" rot="16200000">
              <a:off x="5646960" y="2539080"/>
              <a:ext cx="656640" cy="2833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1" name=""/>
            <p:cNvCxnSpPr>
              <a:stCxn id="272" idx="9"/>
              <a:endCxn id="276" idx="8"/>
            </p:cNvCxnSpPr>
            <p:nvPr/>
          </p:nvCxnSpPr>
          <p:spPr>
            <a:xfrm flipH="1" rot="16200000">
              <a:off x="5873040" y="2314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82" name="Document"/>
            <p:cNvSpPr/>
            <p:nvPr/>
          </p:nvSpPr>
          <p:spPr>
            <a:xfrm>
              <a:off x="6109560" y="398052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Document"/>
            <p:cNvSpPr/>
            <p:nvPr/>
          </p:nvSpPr>
          <p:spPr>
            <a:xfrm>
              <a:off x="6114240" y="4435560"/>
              <a:ext cx="205560" cy="31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Document"/>
            <p:cNvSpPr/>
            <p:nvPr/>
          </p:nvSpPr>
          <p:spPr>
            <a:xfrm>
              <a:off x="6121440" y="4885560"/>
              <a:ext cx="205560" cy="3132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5" name=""/>
            <p:cNvCxnSpPr>
              <a:endCxn id="284" idx="8"/>
            </p:cNvCxnSpPr>
            <p:nvPr/>
          </p:nvCxnSpPr>
          <p:spPr>
            <a:xfrm flipH="1" rot="16200000">
              <a:off x="5424120" y="4344120"/>
              <a:ext cx="1106640" cy="2908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6" name=""/>
            <p:cNvCxnSpPr>
              <a:endCxn id="283" idx="8"/>
            </p:cNvCxnSpPr>
            <p:nvPr/>
          </p:nvCxnSpPr>
          <p:spPr>
            <a:xfrm flipH="1" rot="16200000">
              <a:off x="5645520" y="4122720"/>
              <a:ext cx="656640" cy="2836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endCxn id="282" idx="8"/>
            </p:cNvCxnSpPr>
            <p:nvPr/>
          </p:nvCxnSpPr>
          <p:spPr>
            <a:xfrm flipH="1" rot="16200000">
              <a:off x="5870520" y="3898080"/>
              <a:ext cx="201600" cy="27828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288" name=""/>
          <p:cNvGrpSpPr/>
          <p:nvPr/>
        </p:nvGrpSpPr>
        <p:grpSpPr>
          <a:xfrm>
            <a:off x="2782800" y="1744560"/>
            <a:ext cx="1152000" cy="1859760"/>
            <a:chOff x="2782800" y="1744560"/>
            <a:chExt cx="1152000" cy="1859760"/>
          </a:xfrm>
        </p:grpSpPr>
        <p:sp>
          <p:nvSpPr>
            <p:cNvPr id="289" name="File"/>
            <p:cNvSpPr/>
            <p:nvPr/>
          </p:nvSpPr>
          <p:spPr>
            <a:xfrm>
              <a:off x="2782800" y="1744560"/>
              <a:ext cx="406440" cy="2667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File"/>
            <p:cNvSpPr/>
            <p:nvPr/>
          </p:nvSpPr>
          <p:spPr>
            <a:xfrm>
              <a:off x="3238920" y="2074320"/>
              <a:ext cx="402840" cy="26748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1" name=""/>
            <p:cNvCxnSpPr>
              <a:stCxn id="289" idx="6"/>
              <a:endCxn id="290" idx="6"/>
            </p:cNvCxnSpPr>
            <p:nvPr/>
          </p:nvCxnSpPr>
          <p:spPr>
            <a:xfrm flipH="1" rot="16200000">
              <a:off x="3012120" y="1982520"/>
              <a:ext cx="197640" cy="25452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2" name="Document"/>
            <p:cNvSpPr/>
            <p:nvPr/>
          </p:nvSpPr>
          <p:spPr>
            <a:xfrm>
              <a:off x="3717360" y="238248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Document"/>
            <p:cNvSpPr/>
            <p:nvPr/>
          </p:nvSpPr>
          <p:spPr>
            <a:xfrm>
              <a:off x="3723840" y="2839680"/>
              <a:ext cx="204480" cy="31140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Document"/>
            <p:cNvSpPr/>
            <p:nvPr/>
          </p:nvSpPr>
          <p:spPr>
            <a:xfrm>
              <a:off x="3729600" y="3288600"/>
              <a:ext cx="205200" cy="31572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95" name=""/>
            <p:cNvCxnSpPr>
              <a:stCxn id="290" idx="7"/>
              <a:endCxn id="294" idx="8"/>
            </p:cNvCxnSpPr>
            <p:nvPr/>
          </p:nvCxnSpPr>
          <p:spPr>
            <a:xfrm flipH="1" rot="16200000">
              <a:off x="3032640" y="2748240"/>
              <a:ext cx="1102680" cy="2894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6" name=""/>
            <p:cNvCxnSpPr>
              <a:stCxn id="290" idx="8"/>
              <a:endCxn id="293" idx="8"/>
            </p:cNvCxnSpPr>
            <p:nvPr/>
          </p:nvCxnSpPr>
          <p:spPr>
            <a:xfrm flipH="1" rot="16200000">
              <a:off x="3254760" y="2526840"/>
              <a:ext cx="653760" cy="28404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97" name=""/>
            <p:cNvCxnSpPr>
              <a:stCxn id="290" idx="9"/>
              <a:endCxn id="292" idx="8"/>
            </p:cNvCxnSpPr>
            <p:nvPr/>
          </p:nvCxnSpPr>
          <p:spPr>
            <a:xfrm flipH="1" rot="16200000">
              <a:off x="3478680" y="2303640"/>
              <a:ext cx="200880" cy="277200"/>
            </a:xfrm>
            <a:prstGeom prst="bentConnector2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298" name="File"/>
          <p:cNvSpPr/>
          <p:nvPr/>
        </p:nvSpPr>
        <p:spPr>
          <a:xfrm>
            <a:off x="1746360" y="1744560"/>
            <a:ext cx="407880" cy="26856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614600" y="1069920"/>
            <a:ext cx="5576760" cy="795240"/>
          </a:xfrm>
          <a:prstGeom prst="rightArrow">
            <a:avLst>
              <a:gd name="adj1" fmla="val 38519"/>
              <a:gd name="adj2" fmla="val 77659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1825560" y="1325520"/>
            <a:ext cx="333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52640" y="1325520"/>
            <a:ext cx="322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049640" y="1332000"/>
            <a:ext cx="28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261040" y="1332000"/>
            <a:ext cx="25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09T23:23:35Z</dcterms:created>
  <dc:creator>Collins-Sussman</dc:creator>
  <dc:description/>
  <dc:language>en-US</dc:language>
  <cp:lastModifiedBy>C. Michael Pilato</cp:lastModifiedBy>
  <dcterms:modified xsi:type="dcterms:W3CDTF">2004-02-18T04:35:09Z</dcterms:modified>
  <cp:revision>39</cp:revision>
  <dc:subject/>
  <dc:title>PowerPoint Presentation</dc:title>
</cp:coreProperties>
</file>