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0B945-4B7C-4066-BDEB-42CA9338E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E8933-F033-496B-8AC3-B079A9FCD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9D2AC-5E66-4FFF-887E-A2449AB0D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9D57A-47E2-43BE-BDB3-540EBA76E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999FE-C9EF-412B-B631-6C5F1062E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B84CD-A184-48A7-818B-DAFC6AF88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5436C-B9B5-4881-9F5F-F41FC4D8D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EEFD5-86ED-4586-BB5A-B2732FFF9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16F67-3497-4C4C-83E6-0476844F3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6F041-1F7C-4B9E-AF00-D3432BC58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05064-790E-4B2E-AF29-3EF03FFF5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7E193-64EE-4F12-A136-43C26F78A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9E2DA-C1D9-4CB5-8D0D-55090F935F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4880" y="3178080"/>
            <a:ext cx="691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" name=""/>
          <p:cNvCxnSpPr/>
          <p:nvPr/>
        </p:nvCxnSpPr>
        <p:spPr>
          <a:xfrm flipV="1">
            <a:off x="742680" y="2655000"/>
            <a:ext cx="6872760" cy="523080"/>
          </a:xfrm>
          <a:prstGeom prst="bentConnector3">
            <a:avLst>
              <a:gd name="adj1" fmla="val 49989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3" name=""/>
          <p:cNvCxnSpPr/>
          <p:nvPr/>
        </p:nvCxnSpPr>
        <p:spPr>
          <a:xfrm>
            <a:off x="4460400" y="3181320"/>
            <a:ext cx="3164760" cy="518400"/>
          </a:xfrm>
          <a:prstGeom prst="bentConnector3">
            <a:avLst>
              <a:gd name="adj1" fmla="val 11137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44" name=""/>
          <p:cNvCxnSpPr/>
          <p:nvPr/>
        </p:nvCxnSpPr>
        <p:spPr>
          <a:xfrm flipV="1">
            <a:off x="4940280" y="2157120"/>
            <a:ext cx="2642400" cy="501840"/>
          </a:xfrm>
          <a:prstGeom prst="bentConnector3">
            <a:avLst>
              <a:gd name="adj1" fmla="val 33832"/>
            </a:avLst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45" name=""/>
          <p:cNvSpPr/>
          <p:nvPr/>
        </p:nvSpPr>
        <p:spPr>
          <a:xfrm>
            <a:off x="689760" y="2771640"/>
            <a:ext cx="283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riginal line of 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388400" y="2259000"/>
            <a:ext cx="11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st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7560" y="3327480"/>
            <a:ext cx="12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n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277680" y="1790640"/>
            <a:ext cx="116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rd bran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3824280"/>
            <a:ext cx="6964200" cy="1244520"/>
          </a:xfrm>
          <a:prstGeom prst="rightArrow">
            <a:avLst>
              <a:gd name="adj1" fmla="val 41324"/>
              <a:gd name="adj2" fmla="val 10956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947880" y="515880"/>
            <a:ext cx="6506640" cy="6049800"/>
            <a:chOff x="947880" y="515880"/>
            <a:chExt cx="6506640" cy="6049800"/>
          </a:xfrm>
        </p:grpSpPr>
        <p:sp>
          <p:nvSpPr>
            <p:cNvPr id="51" name="File"/>
            <p:cNvSpPr/>
            <p:nvPr/>
          </p:nvSpPr>
          <p:spPr>
            <a:xfrm>
              <a:off x="2467080" y="1619640"/>
              <a:ext cx="137340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al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2" name=""/>
            <p:cNvCxnSpPr>
              <a:stCxn id="51" idx="6"/>
              <a:endCxn id="53" idx="6"/>
            </p:cNvCxnSpPr>
            <p:nvPr/>
          </p:nvCxnSpPr>
          <p:spPr>
            <a:xfrm flipH="1" rot="16200000">
              <a:off x="2878200" y="2527920"/>
              <a:ext cx="1451160" cy="9000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4" name=""/>
            <p:cNvCxnSpPr>
              <a:stCxn id="51" idx="7"/>
              <a:endCxn id="55" idx="6"/>
            </p:cNvCxnSpPr>
            <p:nvPr/>
          </p:nvCxnSpPr>
          <p:spPr>
            <a:xfrm flipH="1" rot="16200000">
              <a:off x="3287520" y="2117880"/>
              <a:ext cx="581400" cy="850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5" name="File"/>
            <p:cNvSpPr/>
            <p:nvPr/>
          </p:nvSpPr>
          <p:spPr>
            <a:xfrm>
              <a:off x="4004280" y="2517120"/>
              <a:ext cx="128448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File"/>
            <p:cNvSpPr/>
            <p:nvPr/>
          </p:nvSpPr>
          <p:spPr>
            <a:xfrm>
              <a:off x="4053600" y="338688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File"/>
            <p:cNvSpPr/>
            <p:nvPr/>
          </p:nvSpPr>
          <p:spPr>
            <a:xfrm>
              <a:off x="2486520" y="4165920"/>
              <a:ext cx="137520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pa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7" name=""/>
            <p:cNvCxnSpPr>
              <a:stCxn id="56" idx="6"/>
              <a:endCxn id="58" idx="6"/>
            </p:cNvCxnSpPr>
            <p:nvPr/>
          </p:nvCxnSpPr>
          <p:spPr>
            <a:xfrm flipH="1" rot="16200000">
              <a:off x="2879640" y="5093640"/>
              <a:ext cx="1451160" cy="859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59" name=""/>
            <p:cNvCxnSpPr>
              <a:stCxn id="56" idx="7"/>
              <a:endCxn id="60" idx="6"/>
            </p:cNvCxnSpPr>
            <p:nvPr/>
          </p:nvCxnSpPr>
          <p:spPr>
            <a:xfrm flipH="1" rot="16200000">
              <a:off x="3288600" y="4684320"/>
              <a:ext cx="581400" cy="809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0" name="File"/>
            <p:cNvSpPr/>
            <p:nvPr/>
          </p:nvSpPr>
          <p:spPr>
            <a:xfrm>
              <a:off x="3984840" y="5063400"/>
              <a:ext cx="128484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trunk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File"/>
            <p:cNvSpPr/>
            <p:nvPr/>
          </p:nvSpPr>
          <p:spPr>
            <a:xfrm>
              <a:off x="4034520" y="5932800"/>
              <a:ext cx="1284480" cy="632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branch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947880" y="515880"/>
              <a:ext cx="1299960" cy="63252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2" name=""/>
            <p:cNvCxnSpPr>
              <a:stCxn id="61" idx="6"/>
              <a:endCxn id="56" idx="8"/>
            </p:cNvCxnSpPr>
            <p:nvPr/>
          </p:nvCxnSpPr>
          <p:spPr>
            <a:xfrm flipH="1" rot="16200000">
              <a:off x="374760" y="2370600"/>
              <a:ext cx="3334680" cy="889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61" idx="7"/>
              <a:endCxn id="51" idx="8"/>
            </p:cNvCxnSpPr>
            <p:nvPr/>
          </p:nvCxnSpPr>
          <p:spPr>
            <a:xfrm flipH="1" rot="16200000">
              <a:off x="1638360" y="1107360"/>
              <a:ext cx="788400" cy="8697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4" name="Document"/>
            <p:cNvSpPr/>
            <p:nvPr/>
          </p:nvSpPr>
          <p:spPr>
            <a:xfrm>
              <a:off x="6957360" y="183060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Document"/>
            <p:cNvSpPr/>
            <p:nvPr/>
          </p:nvSpPr>
          <p:spPr>
            <a:xfrm>
              <a:off x="6950880" y="253872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Document"/>
            <p:cNvSpPr/>
            <p:nvPr/>
          </p:nvSpPr>
          <p:spPr>
            <a:xfrm>
              <a:off x="6959160" y="324252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" name=""/>
            <p:cNvCxnSpPr>
              <a:stCxn id="55" idx="7"/>
              <a:endCxn id="66" idx="8"/>
            </p:cNvCxnSpPr>
            <p:nvPr/>
          </p:nvCxnSpPr>
          <p:spPr>
            <a:xfrm>
              <a:off x="5288760" y="2833200"/>
              <a:ext cx="1673280" cy="702360"/>
            </a:xfrm>
            <a:prstGeom prst="bentConnector3">
              <a:avLst>
                <a:gd name="adj1" fmla="val 4992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8" name=""/>
            <p:cNvCxnSpPr>
              <a:stCxn id="55" idx="8"/>
              <a:endCxn id="65" idx="8"/>
            </p:cNvCxnSpPr>
            <p:nvPr/>
          </p:nvCxnSpPr>
          <p:spPr>
            <a:xfrm>
              <a:off x="5288760" y="2833200"/>
              <a:ext cx="1664640" cy="10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9" name=""/>
            <p:cNvCxnSpPr>
              <a:stCxn id="55" idx="9"/>
              <a:endCxn id="64" idx="8"/>
            </p:cNvCxnSpPr>
            <p:nvPr/>
          </p:nvCxnSpPr>
          <p:spPr>
            <a:xfrm flipV="1">
              <a:off x="5288400" y="2124720"/>
              <a:ext cx="1670760" cy="708840"/>
            </a:xfrm>
            <a:prstGeom prst="bentConnector3">
              <a:avLst>
                <a:gd name="adj1" fmla="val 49849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Document"/>
            <p:cNvSpPr/>
            <p:nvPr/>
          </p:nvSpPr>
          <p:spPr>
            <a:xfrm>
              <a:off x="7019640" y="4374720"/>
              <a:ext cx="432360" cy="58500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Document"/>
            <p:cNvSpPr/>
            <p:nvPr/>
          </p:nvSpPr>
          <p:spPr>
            <a:xfrm>
              <a:off x="7013160" y="5082480"/>
              <a:ext cx="432360" cy="58536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Document"/>
            <p:cNvSpPr/>
            <p:nvPr/>
          </p:nvSpPr>
          <p:spPr>
            <a:xfrm>
              <a:off x="7021800" y="5773680"/>
              <a:ext cx="432720" cy="581040"/>
            </a:xfrm>
            <a:prstGeom prst="pie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3" name=""/>
            <p:cNvCxnSpPr>
              <a:stCxn id="60" idx="7"/>
              <a:endCxn id="72" idx="8"/>
            </p:cNvCxnSpPr>
            <p:nvPr/>
          </p:nvCxnSpPr>
          <p:spPr>
            <a:xfrm>
              <a:off x="5269680" y="5379480"/>
              <a:ext cx="1754640" cy="687240"/>
            </a:xfrm>
            <a:prstGeom prst="bentConnector3">
              <a:avLst>
                <a:gd name="adj1" fmla="val 49928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4" name=""/>
            <p:cNvCxnSpPr>
              <a:stCxn id="60" idx="8"/>
              <a:endCxn id="71" idx="8"/>
            </p:cNvCxnSpPr>
            <p:nvPr/>
          </p:nvCxnSpPr>
          <p:spPr>
            <a:xfrm flipV="1">
              <a:off x="5269680" y="5376960"/>
              <a:ext cx="1746000" cy="2520"/>
            </a:xfrm>
            <a:prstGeom prst="bentConnector3">
              <a:avLst>
                <a:gd name="adj1" fmla="val 4992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75" name=""/>
            <p:cNvCxnSpPr>
              <a:stCxn id="60" idx="9"/>
              <a:endCxn id="70" idx="8"/>
            </p:cNvCxnSpPr>
            <p:nvPr/>
          </p:nvCxnSpPr>
          <p:spPr>
            <a:xfrm flipV="1">
              <a:off x="5269680" y="4669560"/>
              <a:ext cx="1752480" cy="710280"/>
            </a:xfrm>
            <a:prstGeom prst="bentConnector3">
              <a:avLst>
                <a:gd name="adj1" fmla="val 49866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File"/>
          <p:cNvSpPr/>
          <p:nvPr/>
        </p:nvSpPr>
        <p:spPr>
          <a:xfrm>
            <a:off x="4765680" y="3392640"/>
            <a:ext cx="84600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my-calc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bran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Document"/>
          <p:cNvSpPr/>
          <p:nvPr/>
        </p:nvSpPr>
        <p:spPr>
          <a:xfrm>
            <a:off x="6842160" y="288612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Document"/>
          <p:cNvSpPr/>
          <p:nvPr/>
        </p:nvSpPr>
        <p:spPr>
          <a:xfrm>
            <a:off x="6837480" y="340848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Document"/>
          <p:cNvSpPr/>
          <p:nvPr/>
        </p:nvSpPr>
        <p:spPr>
          <a:xfrm>
            <a:off x="6843600" y="3927600"/>
            <a:ext cx="31932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prstDash val="dash"/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stCxn id="76" idx="6"/>
            <a:endCxn id="79" idx="8"/>
          </p:cNvCxnSpPr>
          <p:nvPr/>
        </p:nvCxnSpPr>
        <p:spPr>
          <a:xfrm>
            <a:off x="5611320" y="3625560"/>
            <a:ext cx="1234440" cy="51804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1" name=""/>
          <p:cNvCxnSpPr>
            <a:stCxn id="76" idx="7"/>
            <a:endCxn id="78" idx="8"/>
          </p:cNvCxnSpPr>
          <p:nvPr/>
        </p:nvCxnSpPr>
        <p:spPr>
          <a:xfrm>
            <a:off x="5611320" y="362556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82" name=""/>
          <p:cNvCxnSpPr>
            <a:stCxn id="76" idx="8"/>
            <a:endCxn id="77" idx="8"/>
          </p:cNvCxnSpPr>
          <p:nvPr/>
        </p:nvCxnSpPr>
        <p:spPr>
          <a:xfrm flipV="1">
            <a:off x="5611680" y="3102840"/>
            <a:ext cx="1232280" cy="52308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 rot="5400000">
            <a:off x="4224960" y="2247120"/>
            <a:ext cx="1284120" cy="933480"/>
          </a:xfrm>
          <a:custGeom>
            <a:avLst/>
            <a:gdLst>
              <a:gd name="textAreaLeft" fmla="*/ 0 w 1284120"/>
              <a:gd name="textAreaRight" fmla="*/ 1284480 w 1284120"/>
              <a:gd name="textAreaTop" fmla="*/ 0 h 933480"/>
              <a:gd name="textAreaBottom" fmla="*/ 933840 h 933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8233" stAng="10800000" swAng="5400000"/>
                <a:lnTo>
                  <a:pt x="19740" y="3927"/>
                </a:lnTo>
                <a:lnTo>
                  <a:pt x="19740" y="0"/>
                </a:lnTo>
                <a:lnTo>
                  <a:pt x="21600" y="6079"/>
                </a:lnTo>
                <a:lnTo>
                  <a:pt x="19740" y="12158"/>
                </a:lnTo>
                <a:lnTo>
                  <a:pt x="19740" y="8231"/>
                </a:lnTo>
                <a:lnTo>
                  <a:pt x="12427" y="8231"/>
                </a:lnTo>
                <a:arcTo wR="8123" hR="3929" stAng="16200000" swAng="-5400000"/>
                <a:lnTo>
                  <a:pt x="4304" y="21600"/>
                </a:lnTo>
                <a:close/>
              </a:path>
            </a:pathLst>
          </a:custGeom>
          <a:solidFill>
            <a:srgbClr val="dddddd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File"/>
          <p:cNvSpPr/>
          <p:nvPr/>
        </p:nvSpPr>
        <p:spPr>
          <a:xfrm>
            <a:off x="2317680" y="1233360"/>
            <a:ext cx="101304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5" name=""/>
          <p:cNvCxnSpPr>
            <a:stCxn id="84" idx="6"/>
            <a:endCxn id="86" idx="6"/>
          </p:cNvCxnSpPr>
          <p:nvPr/>
        </p:nvCxnSpPr>
        <p:spPr>
          <a:xfrm flipH="1" rot="16200000">
            <a:off x="2620080" y="1903320"/>
            <a:ext cx="1070640" cy="6642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7" name=""/>
          <p:cNvCxnSpPr>
            <a:stCxn id="84" idx="7"/>
            <a:endCxn id="88" idx="6"/>
          </p:cNvCxnSpPr>
          <p:nvPr/>
        </p:nvCxnSpPr>
        <p:spPr>
          <a:xfrm flipH="1" rot="16200000">
            <a:off x="2923560" y="1600560"/>
            <a:ext cx="429120" cy="6278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File"/>
          <p:cNvSpPr/>
          <p:nvPr/>
        </p:nvSpPr>
        <p:spPr>
          <a:xfrm>
            <a:off x="3451320" y="1895400"/>
            <a:ext cx="94752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File"/>
          <p:cNvSpPr/>
          <p:nvPr/>
        </p:nvSpPr>
        <p:spPr>
          <a:xfrm>
            <a:off x="3487680" y="2536920"/>
            <a:ext cx="94788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File"/>
          <p:cNvSpPr/>
          <p:nvPr/>
        </p:nvSpPr>
        <p:spPr>
          <a:xfrm>
            <a:off x="2360520" y="4352760"/>
            <a:ext cx="10144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0" name=""/>
          <p:cNvCxnSpPr>
            <a:stCxn id="89" idx="6"/>
            <a:endCxn id="91" idx="6"/>
          </p:cNvCxnSpPr>
          <p:nvPr/>
        </p:nvCxnSpPr>
        <p:spPr>
          <a:xfrm flipH="1" rot="16200000">
            <a:off x="2650320" y="5037480"/>
            <a:ext cx="1070640" cy="6343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"/>
          <p:cNvCxnSpPr>
            <a:stCxn id="89" idx="7"/>
            <a:endCxn id="93" idx="6"/>
          </p:cNvCxnSpPr>
          <p:nvPr/>
        </p:nvCxnSpPr>
        <p:spPr>
          <a:xfrm flipH="1" rot="16200000">
            <a:off x="2952360" y="4735080"/>
            <a:ext cx="429480" cy="59760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File"/>
          <p:cNvSpPr/>
          <p:nvPr/>
        </p:nvSpPr>
        <p:spPr>
          <a:xfrm>
            <a:off x="3465360" y="5014800"/>
            <a:ext cx="9478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File"/>
          <p:cNvSpPr/>
          <p:nvPr/>
        </p:nvSpPr>
        <p:spPr>
          <a:xfrm>
            <a:off x="3502080" y="5656320"/>
            <a:ext cx="94752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anch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File"/>
          <p:cNvSpPr/>
          <p:nvPr/>
        </p:nvSpPr>
        <p:spPr>
          <a:xfrm>
            <a:off x="1197000" y="419040"/>
            <a:ext cx="958680" cy="466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5" name=""/>
          <p:cNvCxnSpPr>
            <a:stCxn id="94" idx="6"/>
            <a:endCxn id="89" idx="8"/>
          </p:cNvCxnSpPr>
          <p:nvPr/>
        </p:nvCxnSpPr>
        <p:spPr>
          <a:xfrm flipH="1" rot="16200000">
            <a:off x="168120" y="2393640"/>
            <a:ext cx="3701160" cy="6847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6" name=""/>
          <p:cNvCxnSpPr>
            <a:stCxn id="94" idx="7"/>
            <a:endCxn id="84" idx="8"/>
          </p:cNvCxnSpPr>
          <p:nvPr/>
        </p:nvCxnSpPr>
        <p:spPr>
          <a:xfrm flipH="1" rot="16200000">
            <a:off x="1705680" y="855720"/>
            <a:ext cx="581400" cy="641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7" name="Document"/>
          <p:cNvSpPr/>
          <p:nvPr/>
        </p:nvSpPr>
        <p:spPr>
          <a:xfrm>
            <a:off x="5629320" y="138924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Document"/>
          <p:cNvSpPr/>
          <p:nvPr/>
        </p:nvSpPr>
        <p:spPr>
          <a:xfrm>
            <a:off x="5624640" y="19112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Document"/>
          <p:cNvSpPr/>
          <p:nvPr/>
        </p:nvSpPr>
        <p:spPr>
          <a:xfrm>
            <a:off x="5630760" y="2430360"/>
            <a:ext cx="319320" cy="42876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0" name=""/>
          <p:cNvCxnSpPr>
            <a:stCxn id="88" idx="7"/>
            <a:endCxn id="99" idx="8"/>
          </p:cNvCxnSpPr>
          <p:nvPr/>
        </p:nvCxnSpPr>
        <p:spPr>
          <a:xfrm>
            <a:off x="4398480" y="2128680"/>
            <a:ext cx="1234440" cy="518400"/>
          </a:xfrm>
          <a:prstGeom prst="bentConnector3">
            <a:avLst>
              <a:gd name="adj1" fmla="val 4991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1" name=""/>
          <p:cNvCxnSpPr>
            <a:stCxn id="88" idx="8"/>
            <a:endCxn id="98" idx="8"/>
          </p:cNvCxnSpPr>
          <p:nvPr/>
        </p:nvCxnSpPr>
        <p:spPr>
          <a:xfrm>
            <a:off x="4398480" y="2128320"/>
            <a:ext cx="122796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88" idx="9"/>
            <a:endCxn id="97" idx="8"/>
          </p:cNvCxnSpPr>
          <p:nvPr/>
        </p:nvCxnSpPr>
        <p:spPr>
          <a:xfrm flipV="1">
            <a:off x="4398840" y="1606320"/>
            <a:ext cx="1232280" cy="522720"/>
          </a:xfrm>
          <a:prstGeom prst="bentConnector3">
            <a:avLst>
              <a:gd name="adj1" fmla="val 4988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3" name="Document"/>
          <p:cNvSpPr/>
          <p:nvPr/>
        </p:nvSpPr>
        <p:spPr>
          <a:xfrm>
            <a:off x="5703840" y="4506840"/>
            <a:ext cx="318960" cy="4320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Document"/>
          <p:cNvSpPr/>
          <p:nvPr/>
        </p:nvSpPr>
        <p:spPr>
          <a:xfrm>
            <a:off x="5699160" y="5029200"/>
            <a:ext cx="318960" cy="43164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Document"/>
          <p:cNvSpPr/>
          <p:nvPr/>
        </p:nvSpPr>
        <p:spPr>
          <a:xfrm>
            <a:off x="5705640" y="5538960"/>
            <a:ext cx="318960" cy="428400"/>
          </a:xfrm>
          <a:prstGeom prst="pi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3" idx="7"/>
            <a:endCxn id="105" idx="8"/>
          </p:cNvCxnSpPr>
          <p:nvPr/>
        </p:nvCxnSpPr>
        <p:spPr>
          <a:xfrm>
            <a:off x="4413240" y="5248440"/>
            <a:ext cx="1294560" cy="50688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93" idx="8"/>
            <a:endCxn id="104" idx="8"/>
          </p:cNvCxnSpPr>
          <p:nvPr/>
        </p:nvCxnSpPr>
        <p:spPr>
          <a:xfrm flipV="1">
            <a:off x="4413240" y="5245920"/>
            <a:ext cx="1288080" cy="2520"/>
          </a:xfrm>
          <a:prstGeom prst="bentConnector3">
            <a:avLst>
              <a:gd name="adj1" fmla="val 4993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93" idx="9"/>
            <a:endCxn id="103" idx="8"/>
          </p:cNvCxnSpPr>
          <p:nvPr/>
        </p:nvCxnSpPr>
        <p:spPr>
          <a:xfrm flipV="1">
            <a:off x="4413240" y="4723920"/>
            <a:ext cx="1293120" cy="524880"/>
          </a:xfrm>
          <a:prstGeom prst="bentConnector3">
            <a:avLst>
              <a:gd name="adj1" fmla="val 4987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9" name=""/>
          <p:cNvCxnSpPr>
            <a:stCxn id="86" idx="7"/>
            <a:endCxn id="76" idx="9"/>
          </p:cNvCxnSpPr>
          <p:nvPr/>
        </p:nvCxnSpPr>
        <p:spPr>
          <a:xfrm flipH="1" rot="16200000">
            <a:off x="4051800" y="2912760"/>
            <a:ext cx="623160" cy="80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0" name=""/>
          <p:cNvGrpSpPr/>
          <p:nvPr/>
        </p:nvGrpSpPr>
        <p:grpSpPr>
          <a:xfrm>
            <a:off x="1398960" y="1380960"/>
            <a:ext cx="5484240" cy="3054240"/>
            <a:chOff x="1398960" y="1380960"/>
            <a:chExt cx="5484240" cy="3054240"/>
          </a:xfrm>
        </p:grpSpPr>
        <p:sp>
          <p:nvSpPr>
            <p:cNvPr id="111" name=""/>
            <p:cNvSpPr/>
            <p:nvPr/>
          </p:nvSpPr>
          <p:spPr>
            <a:xfrm>
              <a:off x="1504800" y="3348720"/>
              <a:ext cx="5378400" cy="1086480"/>
            </a:xfrm>
            <a:prstGeom prst="rightArrow">
              <a:avLst>
                <a:gd name="adj1" fmla="val 50000"/>
                <a:gd name="adj2" fmla="val 690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tim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67800" y="2978640"/>
              <a:ext cx="5257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8000" y="2262240"/>
              <a:ext cx="752760" cy="461520"/>
            </a:xfrm>
            <a:prstGeom prst="wedgeRectCallout">
              <a:avLst>
                <a:gd name="adj1" fmla="val -47995"/>
                <a:gd name="adj2" fmla="val 100750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integer.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reat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139200" y="2270520"/>
              <a:ext cx="752760" cy="461160"/>
            </a:xfrm>
            <a:prstGeom prst="wedgeRectCallout">
              <a:avLst>
                <a:gd name="adj1" fmla="val -54620"/>
                <a:gd name="adj2" fmla="val 98648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5" name=""/>
            <p:cNvCxnSpPr/>
            <p:nvPr/>
          </p:nvCxnSpPr>
          <p:spPr>
            <a:xfrm flipV="1">
              <a:off x="1562760" y="2120400"/>
              <a:ext cx="5252760" cy="8546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000000"/>
              </a:solidFill>
              <a:miter/>
              <a:tailEnd len="med" type="triangle" w="lg"/>
            </a:ln>
          </p:spPr>
        </p:cxnSp>
        <p:sp>
          <p:nvSpPr>
            <p:cNvPr id="116" name=""/>
            <p:cNvSpPr/>
            <p:nvPr/>
          </p:nvSpPr>
          <p:spPr>
            <a:xfrm>
              <a:off x="4196880" y="1388880"/>
              <a:ext cx="752760" cy="461520"/>
            </a:xfrm>
            <a:prstGeom prst="wedgeRectCallout">
              <a:avLst>
                <a:gd name="adj1" fmla="val -49231"/>
                <a:gd name="adj2" fmla="val 1058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opi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938200" y="2241360"/>
              <a:ext cx="752760" cy="461520"/>
            </a:xfrm>
            <a:prstGeom prst="wedgeRectCallout">
              <a:avLst>
                <a:gd name="adj1" fmla="val -48152"/>
                <a:gd name="adj2" fmla="val 104356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229360" y="1380960"/>
              <a:ext cx="752760" cy="461160"/>
            </a:xfrm>
            <a:prstGeom prst="wedgeRectCallout">
              <a:avLst>
                <a:gd name="adj1" fmla="val -45379"/>
                <a:gd name="adj2" fmla="val 10765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chang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1398960" y="2945520"/>
              <a:ext cx="48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98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901600" y="29912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0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012200" y="299664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083560" y="216792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5780520" y="2980080"/>
              <a:ext cx="599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344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6931080" y="2819520"/>
            <a:ext cx="610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un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910560" y="1959120"/>
            <a:ext cx="145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y-calc-bran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Ben Collins-Sussman</cp:lastModifiedBy>
  <dcterms:modified xsi:type="dcterms:W3CDTF">2004-03-07T16:51:32Z</dcterms:modified>
  <cp:revision>46</cp:revision>
  <dc:subject/>
  <dc:title>PowerPoint Presentation</dc:title>
</cp:coreProperties>
</file>