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F5BF-321A-4593-BCDA-6F2D1513B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3AE4-C166-4B46-8791-2D76A8A3D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8E78-FBDE-4B53-B6CE-A26C36C8B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DDFF-F528-488E-9FDB-0C7FEEF11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3EAA-F924-4EA3-B05F-D5B3BAF4A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C528-6E62-4D9A-B09E-DC6413187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F70F-A153-4E64-9486-B53BBE93D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4286-C637-4AE1-B838-8F715CAF2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D64B-7BEE-44A7-9BB6-6C633C7A9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9B66-6A38-47B7-9479-00BD53AC5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BF19-D8D7-4B6B-A838-9FB16FB2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1AD6-B01E-427E-A7EA-EDD0EEA7A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941F3-9EAD-4D12-8F39-F306BE387A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352680" y="1600200"/>
            <a:ext cx="2387880" cy="190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58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old.computer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2362320" cy="2306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 rot="10800000">
            <a:off x="4190760" y="3809880"/>
            <a:ext cx="609480" cy="60984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c2" descr=""/>
          <p:cNvPicPr/>
          <p:nvPr/>
        </p:nvPicPr>
        <p:blipFill>
          <a:blip r:embed="rId2"/>
          <a:stretch/>
        </p:blipFill>
        <p:spPr>
          <a:xfrm>
            <a:off x="6095880" y="6094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57200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352680" y="1600200"/>
            <a:ext cx="2387880" cy="350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80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52680" y="3733920"/>
            <a:ext cx="2362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tech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&lt;details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2819520"/>
            <a:ext cx="76212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05720" y="35812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172200" y="1600200"/>
            <a:ext cx="533520" cy="3505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mainframe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2000160" cy="22352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 rot="10800000">
            <a:off x="3276360" y="5333760"/>
            <a:ext cx="609480" cy="60948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05320" y="3505320"/>
            <a:ext cx="205740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6858000" y="304920"/>
            <a:ext cx="1447920" cy="14000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219320" y="487692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29T14:09:38Z</dcterms:modified>
  <cp:revision>39</cp:revision>
  <dc:subject/>
  <dc:title>PowerPoint Presentation</dc:title>
</cp:coreProperties>
</file>