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674-1E94-4F18-8EB4-DF579F74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1B99-3B6E-404A-AFD8-C32063E95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F186-E845-418D-9B1D-938BF60BE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19E1-D6F7-4718-9650-BC0A5D1D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4FC-32B2-4B7A-B439-5F613606C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7E72-A80D-4993-856B-B1933017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E1E-CAD8-44DA-B0AE-185A7CB3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EC41-17D3-4447-B4AE-A6ECAB968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8D5-191F-4555-9BB0-ED550FE0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E710-B594-4D6A-8FAE-1410AFEC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566-6899-4FAC-A408-2FABEBC7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B635-9790-4D61-AF9F-A57AF5BD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6B88-0C4E-4A9B-A8A6-B42BA5FDE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ynamic Process Laun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is simply a sar that provides the capability for remote clients to start and stop JBoss instances on any plat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ability to install/uninstall JBoss instances as Windows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PL can be part of a larger NodeAgent (DPL sar can be deployed in NodeAgent JBoss in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UNIX and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s down global-wrapper.conf if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environment variables required by global-wrapper.conf in order to start the JBoss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the include config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s is used if the client command specified some special wrapper config set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override the global-wrapper.conf sett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indow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executable is run via Runtime.exec() in order to install the 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i global-wrapper.conf wrapper.ntservice.account=DOMAIN/user wrapper.ntservice.password=userpassw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that DPL will never write a username or password to a file; however the client must send the username/password over the wire.  We will rely on JBoss/Remoting security to avoid sending passwords over the wire in plai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sends the JBoss name and serve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PL sets up environment required by global-wrapper.conf and executes wrapper via Runtime.exec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.exe –t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apper global-config.conf set.JBOSS_TO_START_ENV_CONFIG_PATH=name-server-wrapper.en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 will create the anchor file and monitor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JVM exits with abnormal exit code, wrapper will automatically restart the JV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Windows services have a concept of “stop”, UNIX daemons do not (require a kill sig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llow Stop to work the same in a platform-independent way, DPL utilizes the anchor file feature of J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JSW starts a process, it creates an anchor file – when it detects the anchor file has been deleted, it shuts down the JV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apper executable is therefore never called when issuing a stop – only thing that needs to be done is to delete the anchor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etes the instance’s env and 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UNIX, wrapper executable is never run (there is no concept of “uninstall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the wrapper executable is run via Runtime.exec() to uninstall the NT service from the 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apper.exe –r global-wrapper.conf set.JBOSS_TO_START_ENV_CONFIG_PATH=name-server-wrapper.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 of Runtime.exec(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time.exec() is only used to run the short-lived wrapper executable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i to 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r to uninstall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.exe –t to start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rapper to start daemon (forks into background proce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lived processes (the JBoss JVMs themselves) are launched and monitored by the wrapper daemon/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this design, there are no major issues with regards to using Runtime.exec().  Because the Runtime.exec() processes are short-lived, our two threads per Process are also short-lived.  They slurp the stdout/stderr from the wrapper.  Wrapper’s output also goes to a log file so this output data is not lo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, I’m now happy with the way Runtime.exec() is used (its all due to the fact that we only launch short-lived processes with 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Windows Service is to be installed to run as a particular user (i.e. not LocalSystem), client must send account name and password over the wire in plaintext.  Need JBoss/Remoting to provide transport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now classes that perform Runtime.exec() – should we be concerned? Hackers may deploy MBeans that use these classes to launch rogue proc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not be an issue – if a hacker can install MBeans that use our classes, no reason why they can’t execute Runtime.exec() on their 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anchor file means anyone with permission can delete the file and shutdown a JBoss instance.  The user running the DPL JBoss instance is the owner of the anchor fi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ain, may not be a problem.  If they have permission to delete the file, then they also have permission to perform a kill -9 on the pro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685800" y="2743200"/>
            <a:ext cx="1371600" cy="1371600"/>
            <a:chOff x="685800" y="2743200"/>
            <a:chExt cx="1371600" cy="1371600"/>
          </a:xfrm>
        </p:grpSpPr>
        <p:sp>
          <p:nvSpPr>
            <p:cNvPr id="44" name=""/>
            <p:cNvSpPr/>
            <p:nvPr/>
          </p:nvSpPr>
          <p:spPr>
            <a:xfrm>
              <a:off x="685800" y="2743200"/>
              <a:ext cx="1371600" cy="13716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914400" y="3124440"/>
              <a:ext cx="914400" cy="609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dm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so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124080" y="228600"/>
            <a:ext cx="4495680" cy="3200400"/>
            <a:chOff x="3124080" y="228600"/>
            <a:chExt cx="4495680" cy="3200400"/>
          </a:xfrm>
        </p:grpSpPr>
        <p:sp>
          <p:nvSpPr>
            <p:cNvPr id="47" name=""/>
            <p:cNvSpPr/>
            <p:nvPr/>
          </p:nvSpPr>
          <p:spPr>
            <a:xfrm>
              <a:off x="3124080" y="228600"/>
              <a:ext cx="449568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60600" y="1756080"/>
              <a:ext cx="867240" cy="5090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4938120" y="737640"/>
              <a:ext cx="2287080" cy="654480"/>
              <a:chOff x="4938120" y="737640"/>
              <a:chExt cx="2287080" cy="654480"/>
            </a:xfrm>
          </p:grpSpPr>
          <p:sp>
            <p:nvSpPr>
              <p:cNvPr id="50" name=""/>
              <p:cNvSpPr/>
              <p:nvPr/>
            </p:nvSpPr>
            <p:spPr>
              <a:xfrm>
                <a:off x="4938120" y="73764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042240" y="81000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2" name=""/>
              <p:cNvCxnSpPr>
                <a:stCxn id="50" idx="3"/>
                <a:endCxn id="51" idx="1"/>
              </p:cNvCxnSpPr>
              <p:nvPr/>
            </p:nvCxnSpPr>
            <p:spPr>
              <a:xfrm>
                <a:off x="5805360" y="106416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53" name=""/>
            <p:cNvSpPr/>
            <p:nvPr/>
          </p:nvSpPr>
          <p:spPr>
            <a:xfrm>
              <a:off x="3360600" y="883080"/>
              <a:ext cx="867240" cy="6544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3" idx="2"/>
              <a:endCxn id="48" idx="0"/>
            </p:cNvCxnSpPr>
            <p:nvPr/>
          </p:nvCxnSpPr>
          <p:spPr>
            <a:xfrm>
              <a:off x="3794040" y="1537560"/>
              <a:ext cx="108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5" name=""/>
            <p:cNvGrpSpPr/>
            <p:nvPr/>
          </p:nvGrpSpPr>
          <p:grpSpPr>
            <a:xfrm>
              <a:off x="4938120" y="2556000"/>
              <a:ext cx="2287080" cy="654480"/>
              <a:chOff x="4938120" y="2556000"/>
              <a:chExt cx="2287080" cy="654480"/>
            </a:xfrm>
          </p:grpSpPr>
          <p:sp>
            <p:nvSpPr>
              <p:cNvPr id="56" name=""/>
              <p:cNvSpPr/>
              <p:nvPr/>
            </p:nvSpPr>
            <p:spPr>
              <a:xfrm>
                <a:off x="4938120" y="2556000"/>
                <a:ext cx="867600" cy="65448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042240" y="2628360"/>
                <a:ext cx="1182960" cy="5090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" name=""/>
              <p:cNvCxnSpPr>
                <a:stCxn id="56" idx="3"/>
                <a:endCxn id="57" idx="1"/>
              </p:cNvCxnSpPr>
              <p:nvPr/>
            </p:nvCxnSpPr>
            <p:spPr>
              <a:xfrm>
                <a:off x="5805360" y="288252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59" name=""/>
            <p:cNvCxnSpPr>
              <a:stCxn id="48" idx="3"/>
              <a:endCxn id="50" idx="1"/>
            </p:cNvCxnSpPr>
            <p:nvPr/>
          </p:nvCxnSpPr>
          <p:spPr>
            <a:xfrm flipV="1">
              <a:off x="4227840" y="1064160"/>
              <a:ext cx="710280" cy="94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0" name=""/>
            <p:cNvCxnSpPr>
              <a:stCxn id="48" idx="3"/>
              <a:endCxn id="56" idx="1"/>
            </p:cNvCxnSpPr>
            <p:nvPr/>
          </p:nvCxnSpPr>
          <p:spPr>
            <a:xfrm>
              <a:off x="4227840" y="2010600"/>
              <a:ext cx="710280" cy="87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1" name=""/>
            <p:cNvSpPr/>
            <p:nvPr/>
          </p:nvSpPr>
          <p:spPr>
            <a:xfrm>
              <a:off x="4938120" y="1610640"/>
              <a:ext cx="631080" cy="65448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" name=""/>
            <p:cNvCxnSpPr>
              <a:stCxn id="48" idx="3"/>
              <a:endCxn id="61" idx="1"/>
            </p:cNvCxnSpPr>
            <p:nvPr/>
          </p:nvCxnSpPr>
          <p:spPr>
            <a:xfrm flipV="1">
              <a:off x="4227840" y="1937520"/>
              <a:ext cx="710280" cy="7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0"/>
              <a:endCxn id="50" idx="2"/>
            </p:cNvCxnSpPr>
            <p:nvPr/>
          </p:nvCxnSpPr>
          <p:spPr>
            <a:xfrm flipV="1">
              <a:off x="5253120" y="1392120"/>
              <a:ext cx="119160" cy="21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61" idx="2"/>
              <a:endCxn id="56" idx="0"/>
            </p:cNvCxnSpPr>
            <p:nvPr/>
          </p:nvCxnSpPr>
          <p:spPr>
            <a:xfrm>
              <a:off x="5253120" y="2213640"/>
              <a:ext cx="119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grpSp>
        <p:nvGrpSpPr>
          <p:cNvPr id="65" name=""/>
          <p:cNvGrpSpPr/>
          <p:nvPr/>
        </p:nvGrpSpPr>
        <p:grpSpPr>
          <a:xfrm>
            <a:off x="3124080" y="3505320"/>
            <a:ext cx="4496040" cy="3200400"/>
            <a:chOff x="3124080" y="3505320"/>
            <a:chExt cx="4496040" cy="3200400"/>
          </a:xfrm>
        </p:grpSpPr>
        <p:sp>
          <p:nvSpPr>
            <p:cNvPr id="66" name=""/>
            <p:cNvSpPr/>
            <p:nvPr/>
          </p:nvSpPr>
          <p:spPr>
            <a:xfrm>
              <a:off x="3124080" y="3505320"/>
              <a:ext cx="4496040" cy="32004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ost 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60600" y="5032440"/>
              <a:ext cx="868680" cy="509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P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938840" y="4014720"/>
              <a:ext cx="2287080" cy="654120"/>
              <a:chOff x="4938840" y="4014720"/>
              <a:chExt cx="2287080" cy="654120"/>
            </a:xfrm>
          </p:grpSpPr>
          <p:sp>
            <p:nvSpPr>
              <p:cNvPr id="69" name=""/>
              <p:cNvSpPr/>
              <p:nvPr/>
            </p:nvSpPr>
            <p:spPr>
              <a:xfrm>
                <a:off x="4938840" y="4014720"/>
                <a:ext cx="867600" cy="6541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6042960" y="4087080"/>
                <a:ext cx="1182960" cy="508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1" name=""/>
              <p:cNvCxnSpPr>
                <a:stCxn id="69" idx="3"/>
                <a:endCxn id="70" idx="1"/>
              </p:cNvCxnSpPr>
              <p:nvPr/>
            </p:nvCxnSpPr>
            <p:spPr>
              <a:xfrm>
                <a:off x="5806080" y="434124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72" name=""/>
            <p:cNvSpPr/>
            <p:nvPr/>
          </p:nvSpPr>
          <p:spPr>
            <a:xfrm>
              <a:off x="3360600" y="4159080"/>
              <a:ext cx="868680" cy="65592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av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" name=""/>
            <p:cNvCxnSpPr>
              <a:stCxn id="72" idx="2"/>
              <a:endCxn id="67" idx="0"/>
            </p:cNvCxnSpPr>
            <p:nvPr/>
          </p:nvCxnSpPr>
          <p:spPr>
            <a:xfrm>
              <a:off x="3793680" y="4815000"/>
              <a:ext cx="1080" cy="218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4" name=""/>
            <p:cNvGrpSpPr/>
            <p:nvPr/>
          </p:nvGrpSpPr>
          <p:grpSpPr>
            <a:xfrm>
              <a:off x="4938840" y="5832360"/>
              <a:ext cx="2287080" cy="655920"/>
              <a:chOff x="4938840" y="5832360"/>
              <a:chExt cx="2287080" cy="655920"/>
            </a:xfrm>
          </p:grpSpPr>
          <p:sp>
            <p:nvSpPr>
              <p:cNvPr id="75" name=""/>
              <p:cNvSpPr/>
              <p:nvPr/>
            </p:nvSpPr>
            <p:spPr>
              <a:xfrm>
                <a:off x="4938840" y="5832360"/>
                <a:ext cx="867600" cy="65592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v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vi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rapp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042960" y="5904720"/>
                <a:ext cx="1182960" cy="5101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JBoss #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7" name=""/>
              <p:cNvCxnSpPr>
                <a:stCxn id="75" idx="3"/>
                <a:endCxn id="76" idx="1"/>
              </p:cNvCxnSpPr>
              <p:nvPr/>
            </p:nvCxnSpPr>
            <p:spPr>
              <a:xfrm>
                <a:off x="5806080" y="6159600"/>
                <a:ext cx="237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cxnSp>
          <p:nvCxnSpPr>
            <p:cNvPr id="78" name=""/>
            <p:cNvCxnSpPr>
              <a:stCxn id="67" idx="3"/>
              <a:endCxn id="69" idx="1"/>
            </p:cNvCxnSpPr>
            <p:nvPr/>
          </p:nvCxnSpPr>
          <p:spPr>
            <a:xfrm flipV="1">
              <a:off x="4228920" y="4341600"/>
              <a:ext cx="710280" cy="946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>
              <a:stCxn id="67" idx="3"/>
              <a:endCxn id="75" idx="1"/>
            </p:cNvCxnSpPr>
            <p:nvPr/>
          </p:nvCxnSpPr>
          <p:spPr>
            <a:xfrm>
              <a:off x="4228920" y="5287680"/>
              <a:ext cx="710280" cy="872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4938840" y="4888080"/>
              <a:ext cx="630000" cy="653760"/>
            </a:xfrm>
            <a:prstGeom prst="flowChartMulti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rapp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fig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" name=""/>
            <p:cNvCxnSpPr>
              <a:stCxn id="67" idx="3"/>
              <a:endCxn id="80" idx="1"/>
            </p:cNvCxnSpPr>
            <p:nvPr/>
          </p:nvCxnSpPr>
          <p:spPr>
            <a:xfrm flipV="1">
              <a:off x="4228920" y="5214240"/>
              <a:ext cx="710280" cy="73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2" name=""/>
            <p:cNvCxnSpPr>
              <a:stCxn id="80" idx="0"/>
              <a:endCxn id="69" idx="2"/>
            </p:cNvCxnSpPr>
            <p:nvPr/>
          </p:nvCxnSpPr>
          <p:spPr>
            <a:xfrm flipV="1">
              <a:off x="5252760" y="4668120"/>
              <a:ext cx="119880" cy="2199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83" name=""/>
            <p:cNvCxnSpPr>
              <a:stCxn id="80" idx="2"/>
              <a:endCxn id="75" idx="0"/>
            </p:cNvCxnSpPr>
            <p:nvPr/>
          </p:nvCxnSpPr>
          <p:spPr>
            <a:xfrm>
              <a:off x="5252760" y="5489640"/>
              <a:ext cx="119880" cy="34344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cxnSp>
        <p:nvCxnSpPr>
          <p:cNvPr id="84" name=""/>
          <p:cNvCxnSpPr>
            <a:stCxn id="45" idx="3"/>
            <a:endCxn id="48" idx="1"/>
          </p:cNvCxnSpPr>
          <p:nvPr/>
        </p:nvCxnSpPr>
        <p:spPr>
          <a:xfrm flipV="1">
            <a:off x="1828440" y="2010960"/>
            <a:ext cx="1532520" cy="1418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45" idx="3"/>
            <a:endCxn id="67" idx="1"/>
          </p:cNvCxnSpPr>
          <p:nvPr/>
        </p:nvCxnSpPr>
        <p:spPr>
          <a:xfrm>
            <a:off x="1828440" y="3429000"/>
            <a:ext cx="1532520" cy="18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80880" y="990720"/>
            <a:ext cx="1371600" cy="118116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ands te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PL to star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JBoss in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5562720"/>
            <a:ext cx="1828800" cy="1066680"/>
          </a:xfrm>
          <a:noFill/>
          <a:ln w="9360">
            <a:solidFill>
              <a:srgbClr val="000000"/>
            </a:solidFill>
            <a:prstDash val="lgDashDot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 using Runtime.exec to launch JSW, passes configuration info via file and/or cmdline ar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ynamic Process Launcher Conf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76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PL can be deployed in a minimal JBoss instance with the following confi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16002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1600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BOSS_HOME/server/mi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190512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90512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0" idx="2"/>
            <a:endCxn id="92" idx="1"/>
          </p:cNvCxnSpPr>
          <p:nvPr/>
        </p:nvCxnSpPr>
        <p:spPr>
          <a:xfrm flipH="1" rot="16200000">
            <a:off x="4209840" y="1885680"/>
            <a:ext cx="19116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5" name=""/>
          <p:cNvSpPr/>
          <p:nvPr/>
        </p:nvSpPr>
        <p:spPr>
          <a:xfrm>
            <a:off x="4952880" y="22096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22096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2" idx="2"/>
            <a:endCxn id="96" idx="1"/>
          </p:cNvCxnSpPr>
          <p:nvPr/>
        </p:nvCxnSpPr>
        <p:spPr>
          <a:xfrm flipH="1" rot="16200000">
            <a:off x="4476600" y="215208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98" name=""/>
          <p:cNvGrpSpPr/>
          <p:nvPr/>
        </p:nvGrpSpPr>
        <p:grpSpPr>
          <a:xfrm>
            <a:off x="4343400" y="2514600"/>
            <a:ext cx="2249280" cy="276480"/>
            <a:chOff x="4343400" y="2514600"/>
            <a:chExt cx="2249280" cy="276480"/>
          </a:xfrm>
        </p:grpSpPr>
        <p:sp>
          <p:nvSpPr>
            <p:cNvPr id="99" name=""/>
            <p:cNvSpPr/>
            <p:nvPr/>
          </p:nvSpPr>
          <p:spPr>
            <a:xfrm>
              <a:off x="4343400" y="2514600"/>
              <a:ext cx="304560" cy="228600"/>
            </a:xfrm>
            <a:prstGeom prst="flowChartPunchedCard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47960" y="2514600"/>
              <a:ext cx="194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01" name=""/>
          <p:cNvCxnSpPr>
            <a:stCxn id="90" idx="2"/>
            <a:endCxn id="99" idx="1"/>
          </p:cNvCxnSpPr>
          <p:nvPr/>
        </p:nvCxnSpPr>
        <p:spPr>
          <a:xfrm flipH="1" rot="16200000">
            <a:off x="3904920" y="2190600"/>
            <a:ext cx="8010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2" name=""/>
          <p:cNvSpPr/>
          <p:nvPr/>
        </p:nvSpPr>
        <p:spPr>
          <a:xfrm>
            <a:off x="4952880" y="281952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48320" y="28195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99" idx="2"/>
            <a:endCxn id="103" idx="1"/>
          </p:cNvCxnSpPr>
          <p:nvPr/>
        </p:nvCxnSpPr>
        <p:spPr>
          <a:xfrm flipH="1" rot="16200000">
            <a:off x="4476600" y="27615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4952880" y="31240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48320" y="31240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2"/>
            <a:endCxn id="106" idx="1"/>
          </p:cNvCxnSpPr>
          <p:nvPr/>
        </p:nvCxnSpPr>
        <p:spPr>
          <a:xfrm flipH="1" rot="16200000">
            <a:off x="4324320" y="29142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" name=""/>
          <p:cNvSpPr/>
          <p:nvPr/>
        </p:nvSpPr>
        <p:spPr>
          <a:xfrm>
            <a:off x="4952880" y="342900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A-serverB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4290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99" idx="2"/>
            <a:endCxn id="109" idx="1"/>
          </p:cNvCxnSpPr>
          <p:nvPr/>
        </p:nvCxnSpPr>
        <p:spPr>
          <a:xfrm flipH="1" rot="16200000">
            <a:off x="4171680" y="306648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4343400" y="434340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43434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lo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52880" y="46483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pl.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648320" y="46483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2"/>
            <a:endCxn id="114" idx="1"/>
          </p:cNvCxnSpPr>
          <p:nvPr/>
        </p:nvCxnSpPr>
        <p:spPr>
          <a:xfrm flipH="1" rot="16200000">
            <a:off x="4476600" y="4590360"/>
            <a:ext cx="19116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" name=""/>
          <p:cNvCxnSpPr>
            <a:stCxn id="90" idx="2"/>
            <a:endCxn id="111" idx="1"/>
          </p:cNvCxnSpPr>
          <p:nvPr/>
        </p:nvCxnSpPr>
        <p:spPr>
          <a:xfrm flipH="1" rot="16200000">
            <a:off x="2990520" y="3105000"/>
            <a:ext cx="26298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" name=""/>
          <p:cNvSpPr/>
          <p:nvPr/>
        </p:nvSpPr>
        <p:spPr>
          <a:xfrm>
            <a:off x="4952880" y="373392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8320" y="37339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1"/>
          </p:cNvCxnSpPr>
          <p:nvPr/>
        </p:nvCxnSpPr>
        <p:spPr>
          <a:xfrm flipH="1" rot="16200000">
            <a:off x="4324320" y="35236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4952880" y="403848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X-serverY-wrapper.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0384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"/>
          <p:cNvCxnSpPr>
            <a:endCxn id="121" idx="1"/>
          </p:cNvCxnSpPr>
          <p:nvPr/>
        </p:nvCxnSpPr>
        <p:spPr>
          <a:xfrm flipH="1" rot="16200000">
            <a:off x="4171680" y="3675960"/>
            <a:ext cx="80100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3" name=""/>
          <p:cNvSpPr/>
          <p:nvPr/>
        </p:nvSpPr>
        <p:spPr>
          <a:xfrm>
            <a:off x="4343400" y="4952880"/>
            <a:ext cx="304920" cy="228600"/>
          </a:xfrm>
          <a:prstGeom prst="flowChartPunchedCard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4952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525780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.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48320" y="525780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"/>
          <p:cNvCxnSpPr>
            <a:stCxn id="123" idx="2"/>
            <a:endCxn id="126" idx="1"/>
          </p:cNvCxnSpPr>
          <p:nvPr/>
        </p:nvCxnSpPr>
        <p:spPr>
          <a:xfrm flipH="1" rot="16200000">
            <a:off x="4476600" y="5200200"/>
            <a:ext cx="19152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endCxn id="123" idx="1"/>
          </p:cNvCxnSpPr>
          <p:nvPr/>
        </p:nvCxnSpPr>
        <p:spPr>
          <a:xfrm flipH="1" rot="16200000">
            <a:off x="3105000" y="3828960"/>
            <a:ext cx="2401200" cy="76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4952880" y="556272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dll,.so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48320" y="556272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3" idx="2"/>
            <a:endCxn id="130" idx="1"/>
          </p:cNvCxnSpPr>
          <p:nvPr/>
        </p:nvCxnSpPr>
        <p:spPr>
          <a:xfrm flipH="1" rot="16200000">
            <a:off x="4324320" y="535248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" name=""/>
          <p:cNvSpPr/>
          <p:nvPr/>
        </p:nvSpPr>
        <p:spPr>
          <a:xfrm>
            <a:off x="4952880" y="5867280"/>
            <a:ext cx="16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per[.ex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48320" y="5867280"/>
            <a:ext cx="304560" cy="228600"/>
          </a:xfrm>
          <a:prstGeom prst="flowChart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endCxn id="133" idx="1"/>
          </p:cNvCxnSpPr>
          <p:nvPr/>
        </p:nvCxnSpPr>
        <p:spPr>
          <a:xfrm flipH="1" rot="16200000">
            <a:off x="4324320" y="5657400"/>
            <a:ext cx="496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Boss DPL Confi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-wrapper.con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in Java Services Wrapper config used by all insta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/conf that will be pulled down to /data (this to support netboo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server instance may override with wrapper environment and include config files (the client request indicates override settin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en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environment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environment variables to be set in the wrapper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X-serverY-wrapper.incl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rapper include configuration file for the JBoss install named X running its server named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va Services Wrapper include file that defines custom wrapper configuration settings to override those in global-config.con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on Install, removed on Uninst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ing a JBoss instance means installing the wrapper configuration files so the JBoss instance can be sta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does NOT install a JBoss instance from scratch – the command name is “dpl.jBossInstallWrapper” to be clear of its purp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“instance” has a name and a serve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 = a string assigned to the JBoss installation by the client issuing the install 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 Name = the JBoss server name to be started – this is the name of the subdirectory under /server (e.g. default) that is passed to the JBoss Main via the –c command line arg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Windows, it also adds an N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lls down global-config.conf if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s .env and .include based on values provided to it by the client command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allow you to override global config settings to change things like the JVM to run and JVM settings, classpath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s necessary environment variables and starts the wrapper, which reads in config files and starts the JBoss in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handle auto-rest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rely on wrapper to monitor anchor file for stopping instance on de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Windows, starts the NT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UNIX, starts as daemon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y deletes the anchor file; wrapper will detect this and stop the process for 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rks independently of platform – UNIX or Windows, we shutdown the same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nst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nstalling a JBoss instance means removing the wrapper configuration files so the JBoss instance can no longer be started using the wrapper mech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oes NOT physically remove or delete a JBoss installation  – the command name is “dpl.jBossUninstallWrapper” to be clear of its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Boss instance can still be started manually if des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Windows, it also removes the N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s the .env and .includ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Command Framework and JBoss/Remoting for transporting remote client requests to DP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operation (Install, Uninstall, Start, Stop) has its own command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sets up a StartCommand to be used to start the wrapper executable when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rtCommand is handed off to WrapperProcessExec to Runtime.exec() the wrapper execu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21:27:21Z</dcterms:created>
  <dc:creator>John Mazzitelli</dc:creator>
  <dc:description/>
  <dc:language>en-US</dc:language>
  <cp:lastModifiedBy>John Mazzitelli</cp:lastModifiedBy>
  <dcterms:modified xsi:type="dcterms:W3CDTF">2005-01-28T18:23:06Z</dcterms:modified>
  <cp:revision>10</cp:revision>
  <dc:subject/>
  <dc:title>Slide 1</dc:title>
</cp:coreProperties>
</file>