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42B-3281-4730-A381-1D1AD7F8E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’ll be doing the power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reg and I will be assisting you with the l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C2D07BE-6AFF-4FE5-879C-F7053A8014DA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ing – Jan/Feb 200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rles Crouch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pen source admin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reg Hinkle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ad of numerous open source project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C4J, JarJunkie, Carbon and Chi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hn Mazzitelli (JBoss, Inc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aterial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one should have a C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om the CD you will need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inary JBoss Operations Network distribution for the O/S you are runn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.pdf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py the files to a temporary directory on your laptop, but *DON’T* start installing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architecture and feature-s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installation and configur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ea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Boss ON Portal overvie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 JBoss AS with JBoss 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4:51Z</dcterms:modified>
  <cp:revision>80</cp:revision>
  <dc:subject/>
  <dc:title>JBN Enterprise Management</dc:title>
</cp:coreProperties>
</file>