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FFF7484-1E4E-4373-833F-50311C1BC11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JBOSS CONFIDENTIAL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3520" y="6477120"/>
            <a:ext cx="3852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JBOSS CONFID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19320" y="34286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gent 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3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is the agent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is it configured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hat are plugin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to start/stop the 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3733920"/>
            <a:ext cx="56246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e: most of this will be uninteresting to most end users; (but you guys are special </a:t>
            </a:r>
            <a:r>
              <a:rPr b="0" i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e agent runs on each managed platform (host machin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agents communicate back to the server (hub-n-spoke model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gent-to-server utilize HTTP(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to-agent utilize proprietary protocol, may optionally use SS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s do not run inside a JBoss instance (unlike the serv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mands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command se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ug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the products the agent support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up Configur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agent.properties defines: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How/where to connect to server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ere agent can find the serv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gin information agent uses to sign 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SL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e the agent.setup.X setting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commands servers the agent supports (i.e. commands it will accept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cmdBootstrap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The location of the plugin directorie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lugins are dynamically load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gent.pdkPluginDi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hould never have to modify th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Log4J log file location, appenders and loggers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und in the agent directory located under the main install director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an override its settings by placing an “agent.properties” file located in a “.hq” directory under the home directory of the user to run the agent (used mainly for debugging – end users will rarely want to use this)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The /data directory (located under the agent directory) contains configuration information used during runtime such as security token data used to authenticate with the ser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mmand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setting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me of the properties that are of most interest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IP=localhos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ort=708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SLPort=744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Secure=y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Login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camPword=jbnadm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IP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agentPort=*default*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ent.setup.resetupTokens=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rootLogger=INFO, 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4j.logger.com.jboss.jbossnetwork=INF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default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inventory.runtimeScan.interval.millis=8640000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in XML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ach plugin has a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tc/hq-plugin.xm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fines what the plugin sup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tric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duct version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figu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ugin typ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utoinventor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o come in future versions…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e /pdk/plugins directory under the agent directory for the plugin j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tarting/Stopp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indows executable and UNIX script are provid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ex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q-agent.s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ted in the same agent directory as the agent.properties f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se will be renamed in the future (hq=jb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Windows .exe can install itself as a Windows Serv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will create the initial configuration data the agent needs to communication with the server and load its command servers/plugins (agent.properti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tup configuration data is stored in the agent’s /data directory.  Purge this directory for a clean setup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e agent’s /log directory for the logs (unless you modified agent.properties Log4J configuratio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configure the agent to use a secure channel between it and the 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the “setup” command line argument to the agent executab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gent.properties can define the following: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ecur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agent.setup.camSSLPo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art and stop the agent using the command line and (if you are so blessed as to have a Windows machine) the Windows Services GUI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18:11:09Z</dcterms:created>
  <dc:creator>John Mazzitelli</dc:creator>
  <dc:description/>
  <dc:language>en-US</dc:language>
  <cp:lastModifiedBy>John Mazzitelli</cp:lastModifiedBy>
  <dcterms:modified xsi:type="dcterms:W3CDTF">2005-07-10T00:43:07Z</dcterms:modified>
  <cp:revision>27</cp:revision>
  <dc:subject/>
  <dc:title>Agent Overview</dc:title>
</cp:coreProperties>
</file>