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4331FC0-8C5B-4F8D-BC6D-8F8DA502BF43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 Command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479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and Line Inte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Purge 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2 weeks 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7/10/2005 8:00am“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2 weeks ago to the hard date of July 10, 2005 at 8:00a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now - 3 days"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     -to "now – 2 days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between the range of this time 3 days ago to this time 2 days ag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alert delete -from "yesterday"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s alerts that were triggered anytime yesterday or la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e “help alert delete” for more info on date range specificat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sts control actions allowed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Configures the control parameters for a particular resourc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chedules a control action to be performed some time in the futur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rfor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ecute a control action immediatel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Deploye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ployer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t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t supported on Windows platform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what metrics are configured for collection and values that have been collected over a date rang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list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hows metric details and live valu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 “help metric view” for more interesting detail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mpacts aging metric data and purges old dat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ig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s a metric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ab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.g. list/view metrics for JBos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2700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hq-shell::jbnadmin&gt; metric list -server "mazzlap HQ JBoss“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Metric listing: 10 metrics found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ID      Interval   Enabled   Description                          Alias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--      --------   -------   -----------                          -----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70   300        true      Active Thread Count                  ActiveThread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6   300        true      Active Thread Group Count            ActiveThreadGroup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4   10         true      Availability                         Availabilit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8   300        true      JMS Message Cache Size               TotalCacheSize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2   10         true      JVM Free Memory                      Free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4   1800       true      JVM Max Memory                       Max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0   300        true      JVM Total Memory                     TotalMemory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68   300        true      Transactions Active                  TxCount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6   600        true      Transactions Committed per Minute    TxCommit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"/>
              </a:rPr>
              <a:t>10052   600        true      Transactions Rolledback per Minute   TxRollbacks1m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1368720" y="4648320"/>
            <a:ext cx="6474960" cy="1280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metric view -value 100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rieved JVM Free Memory from 'mazzlap HQ JBoss' (2:10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alue:                 47.2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llection Time:       7/10/05 11:43:18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veloper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77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ust set developer.commands prop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nsupported commands – some are buggy, some are no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t/get system proper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 li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seful to see all the agents on your net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4191120"/>
            <a:ext cx="7238880" cy="1604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hq-shell::jbnadmin&gt; agent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 Agents listing 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d      Address            Created              Last Mod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      -------            -------              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0001   127.0.0.1:2144     7/9/05 7:06:10 PM    7/9/05 8:20:47 P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e your shell to login automatically when you start i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the resour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all resour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details of your JBN EM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ew metrics for the JBEM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a list of the metrics that will be collected for the 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et some values of some 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xtra Credit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ew the server’s jboss-service.xml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int: see “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help tf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verview of the CLI she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pecify resourc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 over each group of command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t. 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q-shell.[bat,sh]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renamed “jbn-shell.[bat,sh]” in the fu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pon startup, runs commands found in the script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~/.hq/shell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interactively enter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ou can execute a bulk set of commands by adding them to a script and running the script via the “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source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” comma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lp command provides help (go figur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elp &lt;command&g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re are “hidden” command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supported, yet potentially helpfu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are “broken” – be prepared for erro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enable: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veloper.commands tr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ing this also enables stack traces to be dumped when exceptions occu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ent Shell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pecifying resourc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ommands accept a resource as a command argu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platfor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servi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grou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-ap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ypically, you can specify a resource by name (“host.domain.com”, “My JBoss Server”) or by ID (10001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10001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fs get –group “My Group”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path=/conf/jboss-service.x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sic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ogi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login username:password@ho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is can be the first line in ~/.hq/shellrc to automatically log you in whenever you start the shel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sio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el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[command] [subcommand]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help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ourc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ulk execute a set of comma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imes the execution of another command and reports the elapsed time once comp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&lt;command to execute&gt;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.g. 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time resource 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leep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use for N second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qui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ource command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xport/Import resource inventory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full inventory can be exported to an .xml file or imported from an 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export C:\inventory.xm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list all resources or just the resources of a particular ty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list -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get a more detailed view of a resource (such as what resources are contained in a group, as an example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resource view –server "My JBoss Server"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onfigure and Se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You can configure configuration settings for a particular resour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figure command configures all settin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t command configures one sett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ather than use this command, you typically configure a resource or set a particular resource’s configuration property from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.g. Viewing a Resour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371240"/>
            <a:ext cx="8001000" cy="4800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q-shell::jbnadmin&gt; resource view -server "mazzlap HQ JBoss“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:         mazzlap HQ JBoss (id=10006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rver Type:    JBoss 3.2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scrip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e:          unknow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ll Path:   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engine\server\defaul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wner:          jbnadm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cation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ast Modified:  7/10/05 9:56:25 PM (by admi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reated:        7/9/05 11:00:40 P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resource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naming.provider.url = 'jnp://127.0.0.1:2099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Configuration : control]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nfigSet            = 'defaul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gram              = 'C:\jbem\server-jboss-2.1.dev\hq-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engine\bin\run.bat'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command provides ability to perform auto-discovery and to import resources that were auto-discovered (and as you’ve already seen, you typically do this from the GUI not from CL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, stop, statu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a run to fire in the futur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History – shows previous autoinventory ru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chedule – shows current autoinventory schedul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eu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iew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hows resources that were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prove or ignore resources found during A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ost of these commands are broken due to a NoClassDefFoundError – this will be fixed so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e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sts alerts that were rais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e information provided is not as user-friendly as the information provided when the GUI lists aler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letes alerts from a particular resource or during a particular date range (see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help alert delete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for interesting ways you can specify the date rang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is is really the most useful of the alert/alertdef family of command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Alertd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Li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rea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ele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d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ds actions to an aler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alertdef command is less commonly used – the GUI is typically used to perform the task of creating alert definition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8:28:49Z</dcterms:created>
  <dc:creator>John Mazzitelli</dc:creator>
  <dc:description/>
  <dc:language>en-US</dc:language>
  <cp:lastModifiedBy>John Mazzitelli</cp:lastModifiedBy>
  <dcterms:modified xsi:type="dcterms:W3CDTF">2005-07-11T03:50:58Z</dcterms:modified>
  <cp:revision>57</cp:revision>
  <dc:subject/>
  <dc:title>JBN EM CLI API</dc:title>
</cp:coreProperties>
</file>