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2952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3"/>
          </p:nvPr>
        </p:nvSpPr>
        <p:spPr>
          <a:xfrm>
            <a:off x="5265720" y="-36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933280" y="514440"/>
            <a:ext cx="342900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4"/>
          </p:nvPr>
        </p:nvSpPr>
        <p:spPr>
          <a:xfrm>
            <a:off x="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5"/>
          </p:nvPr>
        </p:nvSpPr>
        <p:spPr>
          <a:xfrm>
            <a:off x="5265720" y="6513120"/>
            <a:ext cx="40291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0AED-E78B-4B71-8C20-E6D50A908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er: Your license is on the C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Upgrading from an installation without monitoring to one which has monitoring is currently a pain. We will look at making this easier but currently if you are entitled to monitoring you should make sure to install a monitoring capable license. The upgrade from the evaluation with monitoring to a full license is easy, just drop in the new license file.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usually a problem since you’re Server will normally be talking to agents on other machines, really just an issue for demo’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rly obvious because agent holds a reference to the servers 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only way to correct this is to update the agent.properties file on each agent platform and set “agent.setup.serverIP” to the new IP of the server.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tform.fqdn can be any string, just look less out of place when it is normal domain name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 through on the slide, then at the end there will be time to do the actual install and config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choose Complete or Custom (just make sure to install Server, Agent and C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Default Installation Settings, the interview takes a long time and the defaults are fine for this exerc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ail server domain, you must change it but doesn’t need to be valid for this exercise, just use localho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this out of the way ear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e worried if you see JBN rather JON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’ve rebranded our materials to JON and the next version (1.2Final) of the software will match that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install yet! There will be time at 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for production – you can install this on laptops for demo/testing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wnload and run setup.sh –full as a non root u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need root access during inst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lso have an Agent-Only installer (not on the CD!) which is smaller and is for installation on your separate agent platfo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change ports or DB’s is available, we will just be installing with defau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ly with UNIX, we have an Agent-Only installer for your agent platforms running the Windows OS (again, this is NOT on the CD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key sub-dire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2933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9880" y="3257640"/>
            <a:ext cx="74358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traightforw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46360" y="16308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06668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36912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1560" y="6486120"/>
            <a:ext cx="811872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5AB407E8-6118-4680-8FAA-91A9EC41BD8B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                      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8160" y="4680"/>
            <a:ext cx="1550880" cy="951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176440" y="6477120"/>
            <a:ext cx="3853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Professional Open Source™ </a:t>
            </a: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Compa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740640" y="111240"/>
            <a:ext cx="2332080" cy="1444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hyperlink" Target="http://localhost:7080/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99072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8960" y="3429000"/>
            <a:ext cx="64767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JBoss Operations Network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ation and Config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080" y="1185480"/>
            <a:ext cx="800100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indows installer configures services that are automatically started when Windows sta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installer starts these services immediately after installation and points a browser at the conso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57480" y="3733920"/>
            <a:ext cx="6629400" cy="25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itial auto-discovery sca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8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agent will perform an initial auto-discovery upon startu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ON supports manag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3.2.x and 4.x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mcat 4.0.x, 4.1.x, 5.0.x, 5.5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pache 1.3.x and 2.x </a:t>
            </a:r>
            <a:r>
              <a:rPr b="1" lang="en-US" sz="2600" spc="-1" strike="noStrike" baseline="30000">
                <a:solidFill>
                  <a:srgbClr val="000000"/>
                </a:solidFill>
                <a:latin typeface="Verdana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/>
          <p:nvPr/>
        </p:nvSpPr>
        <p:spPr>
          <a:xfrm>
            <a:off x="1744560" y="5105520"/>
            <a:ext cx="565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mcat and Apache require further configuration so JON can monitor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ly the server uses the license file for execution. Agents run without a license fil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server license can be obtained from the JBoss Customer Support Porta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784872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the License (con’d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971800"/>
            <a:ext cx="6324840" cy="1247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590920" y="4267080"/>
            <a:ext cx="6095880" cy="1943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Now that the Server is started, login to see the main home p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localhost:7080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pload the license to the JON Server using its Console GUI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cense upload page appears after you log into the GU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4800600"/>
            <a:ext cx="2300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 message like this will appear after you upload a valid license that you received from the Customer Support Por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mport initial auto-discovery sca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shboard will show you what has been auto-discovered (give it a minute!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 the resources you want to mana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lick the “Import” button to tell the server, “Yes, I want to manage these resources that have been discovered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will notice that the server and agent will be auto-discover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s means you can manage/monitor the JON distribution itself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796160" cy="32083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ults of initial auto-discove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2514600"/>
            <a:ext cx="4437000" cy="914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066680" y="3809520"/>
            <a:ext cx="4343400" cy="6858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-720" y="2362320"/>
            <a:ext cx="100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A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1080" y="43434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3352680"/>
            <a:ext cx="4286160" cy="26676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29718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ey! It found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y Apach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eb Serv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666880" y="4266720"/>
            <a:ext cx="2819520" cy="1600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76760" y="5867280"/>
            <a:ext cx="537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lick me to import these auto-discovered servers into JON Ser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185840"/>
            <a:ext cx="82155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 order for the initial import of resources into the JON Server to succeed, the JON Server must have a working network connectio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 for the lab make sure your WiFi is working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befor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beginning the installatio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issue will be fixed in the next vers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080" y="1371600"/>
            <a:ext cx="8001000" cy="49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ce the JON server is deployed and inventoried, changing the IP address of the machine it is running on will cause failures when the agents try to conne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s mostly seen on laptop install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since laptops frequently change ip’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ull-install on Windows will default hostname for agent and server to localhost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if installing on Unix make sure to answer as follows: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s the JON Server IP address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37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What IP should the JON server use to contact the agent: 127.0.0.1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f the name of the platform changes the JON Server will try to re-discover all the servers on the platform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latform name changes often occur due to DNS changes. Again most common for laptops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vent this problem by adding an entry to agent.properties fil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latform.fqdn=machinename.company.co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Summa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080" y="1295280"/>
            <a:ext cx="800100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ON Server and Agents available for Windows and Unix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for either Server and/or Agent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nce started Agents will begin sending data to the Server immediately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a the Server’s Portal interface, discovered resources can be imported and brought under managemen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95080" y="1447920"/>
            <a:ext cx="8001000" cy="48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ning the instal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itial configur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ab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 the full distribution including server, agent and client shell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you have an network connec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ke sure to specify server and agent hostname/ip as localhost/127.0.0.1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fter install has completed updat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BN 1.2.8/agent-jboss-1.2.8/agent.properti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47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o include </a:t>
            </a:r>
            <a:r>
              <a:rPr b="0" i="1" lang="en-US" sz="2100" spc="-1" strike="noStrike">
                <a:solidFill>
                  <a:srgbClr val="000000"/>
                </a:solidFill>
                <a:latin typeface="Verdana"/>
              </a:rPr>
              <a:t>platform.fqdn=machine.yourcompany.c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-49536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Verdana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start the ag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66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load license to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port your initial auto-discovered serv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ebrand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d to be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Network Enterprise Manager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w called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oss Operations Network, also known 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Boss 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O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trodu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JBoss Operations Network (JON) distribution consists of two par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engine that drives it al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teractive GUI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n agent is deployed on each operating system that is to be monitore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erequisit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agement Server Requiremen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mall server (1-5 platforms, 5-15 server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x1GHZ x86 or 1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512M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dium server (6-25 platform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x2GHZ x86 or 2x450MHZ sparc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RA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GB Stor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se are recommended for production systems, but you can install the server on less powerful laptops for demo and testing purpos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5440" y="1185480"/>
            <a:ext cx="8015040" cy="506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, download the appropriate installation package for your platform and follow the installation script’s promp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e basic installation can be performed by executing “setup.sh –full” and choosing the server, agent and shel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all script cannot be run as root however, you must have root access to run another script the installer asks you to run [got it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s second script is called “tune-os.sh” and is only required on some platforms (e.g. Linux but not Windows). It sets some kernel parameters necessary to run the server properl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 agent-only installer is available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 (Windows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o install the Server (and/or Agent and/or client shell) on Windows, download the full windows installer program and run it as desire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dvanced installation will allow you to alter default port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database settings can be chosen from an existing Oracle or PostgreSQL installation or the default embedded PostgreSQL choi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26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JBoss ON also has an agent-only installer availabl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stalled Fil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762120" y="1295280"/>
            <a:ext cx="7086600" cy="4953240"/>
            <a:chOff x="762120" y="1295280"/>
            <a:chExt cx="7086600" cy="495324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762120" y="1295280"/>
              <a:ext cx="2200320" cy="49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886200" y="1523880"/>
              <a:ext cx="3962520" cy="762120"/>
            </a:xfrm>
            <a:prstGeom prst="borderCallout1">
              <a:avLst>
                <a:gd name="adj1" fmla="val 18750"/>
                <a:gd name="adj2" fmla="val -8333"/>
                <a:gd name="adj3" fmla="val -11875"/>
                <a:gd name="adj4" fmla="val -48837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is is the directory given to the installer as the location where the JON distribution should be install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86200" y="25909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8611"/>
                <a:gd name="adj5" fmla="val -298958"/>
                <a:gd name="adj6" fmla="val -1125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Ag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3505320"/>
              <a:ext cx="114300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50694"/>
                <a:gd name="adj5" fmla="val 121356"/>
                <a:gd name="adj6" fmla="val -105833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86200" y="4419720"/>
              <a:ext cx="1523880" cy="304560"/>
            </a:xfrm>
            <a:prstGeom prst="borderCallout2">
              <a:avLst>
                <a:gd name="adj1" fmla="val 18750"/>
                <a:gd name="adj2" fmla="val -8333"/>
                <a:gd name="adj3" fmla="val 37500"/>
                <a:gd name="adj4" fmla="val -42814"/>
                <a:gd name="adj5" fmla="val 393750"/>
                <a:gd name="adj6" fmla="val -90000"/>
              </a:avLst>
            </a:prstGeom>
            <a:noFill/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The Client She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46360" y="16308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unning (Unix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001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rv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erver can be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server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gen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agent is started with:</a:t>
            </a:r>
            <a:br>
              <a:rPr sz="2600"/>
            </a:b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jbn-agent.sh sta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13:38:31Z</dcterms:created>
  <dc:creator>ghinkle</dc:creator>
  <dc:description/>
  <dc:language>en-US</dc:language>
  <cp:lastModifiedBy>John Mazzitelli</cp:lastModifiedBy>
  <dcterms:modified xsi:type="dcterms:W3CDTF">2006-01-20T18:53:41Z</dcterms:modified>
  <cp:revision>93</cp:revision>
  <dc:subject/>
  <dc:title>JBN Enterprise Management</dc:title>
</cp:coreProperties>
</file>