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004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05880" y="118584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50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004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05880" y="3873600"/>
            <a:ext cx="25761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50800" y="240840"/>
            <a:ext cx="6796080" cy="29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94760" y="387360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94760" y="1185840"/>
            <a:ext cx="3904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5080" y="3873600"/>
            <a:ext cx="80010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2709720" y="658332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RIVILEGED &amp; CONFIDENTIAL. JBos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67720" y="5951520"/>
            <a:ext cx="1228680" cy="760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 flipV="1">
            <a:off x="538200" y="98784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590760" y="6338880"/>
            <a:ext cx="18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84B2-81CB-4D7A-AE28-D06C4FC25E4D}" type="slidenum">
              <a:rPr b="0" lang="en-US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685800" y="3012120"/>
            <a:ext cx="7772400" cy="5076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000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27200" y="6553080"/>
            <a:ext cx="44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IVILEGED &amp; CONFIDENTIAL, JBoss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413320"/>
            <a:ext cx="1622520" cy="1459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567320" y="336600"/>
            <a:ext cx="4319640" cy="1163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80000"/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647720"/>
            <a:ext cx="589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JBoss Network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7573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/Platinum Custom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pgra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 (Alert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ing (Workflow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vailability – July 18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Target – testing/doc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ontrolled by license fil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cess still being define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rst releas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sting, documentation, abosorb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Release – Octob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ministration task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C View of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ine tune JEMS monitor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CSP Releas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tadata(metajizer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ifications workflow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Update Serv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chedu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o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uc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oadma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Background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Goal – Extending Suppor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sion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eedbac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quirements/feedback – customers, core, support, jboss world, management, boar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ther feedbac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stomers have seen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re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MEA CAM demo of 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80000"/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J1 demo of E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Two Part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ustomer Service Port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ase Manag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nowledge Tool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nterprise Manage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nvento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ministr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onitor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pda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rovis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16666" r="0" b="4169"/>
          <a:stretch/>
        </p:blipFill>
        <p:spPr>
          <a:xfrm>
            <a:off x="6172200" y="1676520"/>
            <a:ext cx="2438280" cy="1447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172200" y="4267080"/>
            <a:ext cx="2457360" cy="163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CS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uns at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o DB – backend salesfor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Will expose services which EM can communicate wi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very month new featur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JB 3/Struts, will move to JBoss Port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JBN EM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stalls server/agent(s) on customer si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censed third party software for ba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oked at a few vendor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lected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-agent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rver on JBos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flexible architectur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lready supports JBoss, Apache, Tomcat, 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urce code license with ability to open sour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ea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SP – Frank Mer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Updates – Jessica S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Monitoring – Greg Hinkl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EM Administr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ohn Mazzitelli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arles Crou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jit Mandala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Certif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BN Syndication – Mark Luger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rojec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cv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ivate xwiki for documen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9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nerated to static html for online customer acces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IRA Projec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nline distribution from network.jboss.co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rnal distribution available at…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50800" y="240840"/>
            <a:ext cx="679608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95080" y="1185840"/>
            <a:ext cx="80010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BN EM Overview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7T14:53:50Z</dcterms:created>
  <dc:creator>Rich Friedman</dc:creator>
  <dc:description/>
  <dc:language>en-US</dc:language>
  <cp:lastModifiedBy>Rich Friedman</cp:lastModifiedBy>
  <dcterms:modified xsi:type="dcterms:W3CDTF">2005-07-04T23:31:28Z</dcterms:modified>
  <cp:revision>7</cp:revision>
  <dc:subject/>
  <dc:title>Overview</dc:title>
</cp:coreProperties>
</file>