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29F-8AF4-4B48-B8FC-9035401291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ottom half of previous screen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gger alert on the result of a control a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duration of condition before alert fires, e.g. lasts for 5mins within an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frequency of condition , e.g. 10 times  in 30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 alerts, which helps in preventing a single problem from generating a huge number of aler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ty of control actions allowed on JBoss Server it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rt/Stop/Restar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nage JBoss Launcher Service 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s of the Launcher Service on Windows are the integration with the MS Services, on unix can configure the launcher server to restart the process if it exits abnorm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reate DataSour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Control allows for immediate control action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ctions can be scheduled for later execution (may be recurring or non-recurring sched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view history of previously executed control 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[Extra credi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an alert and a recovery alert then trigger the alert then get back to “normal” conditions to trigger a recovery aler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) Define alert for “low memory” (look at the graph to determine a good value of free memory that will assure you that an alert will be trigger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) Define recovery alert for “low memory resolved” (again, look at the graph to see what a good value would be that would assure the recovery alert will be triggered)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&amp; Host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 install path to the JBoss server configuration location (e.g. “default”, “all” configu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Cou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how many services belong to the JBoss server and what their typ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s all services (EJBs, JMS destinations,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you their current availability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tion Proper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mote JNDI endpoint (jnp: URL) used to probe the JBoss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ice auto-discovery enablement 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used to start the JBoss instance (such as the full path to the run.bat and the server configuration name – e.g. “default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t the Server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ath that are high level charts for other metr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o the left shows availability of the groups of services running on this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nclude when control actions occurred, e.g. server re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define a new Alert on this metr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the chart to the dash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rics that can be col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ly collected every 5/10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turn them off or alter collection inter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are collecting a metric you can set an alert on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name, descrip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ority (=&gt; dashboar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/In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urrently collected metrics are displayed in drop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4F1B1F2-9D43-46A1-8FAD-45F6A3F18520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nitoring JBos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 Operations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ing JBoss Application Ser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792468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Variety of control actions allowed on JBoss Server itself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rt/Stop/Rest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JBoss Launcher Serv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 DataSou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Quick Control allows for immediate control action execu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ontrol actions can be scheduled for later execution (may be recurring or non-recurring schedule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an view history of previously executed control action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990720" y="1219320"/>
            <a:ext cx="716256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en the following capabilitie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JBoss AS configuration/installation inform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llect metrics on app server performanc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define alerts to respond to ev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s to control the app server instance and install new servic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ange the JVM Free Memory metric to be collected every 20 second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ew the JVM Free Memory metric graph and narrow the time display range – notice that this metric is now collected more often than the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Define an alert on the JVM Free Memory metric and see that it gets fired appropriately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reate a new Local-Tx DataSource using the Control Actions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the DataSource shortly appear in the inventory and that you can collect metrics on it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24364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oss Application Server management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ype &amp; Host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 install path to the JBoss server configuration location (e.g. “default”, “all” configurations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 Count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how many services belong to the JBoss server and what their types are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ists all services (EJBs, JMS destinations, etc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ows you their current availability metric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nfiguration Properti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Shared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remote JNDI endpoint (jnp: URL) used to probe the JBoss inst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 auto-discovery enablement fl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ation used to start the JBoss instance (such as the full path to the run.bat and the server configuration name – e.g. “default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38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-specific Monitor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Boss Server itsel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ility, JVM memory, Threa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tateless/Stateful Sessio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 Calls per Minute, MaxPoolSize, PoolSize, Remove Calls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Message Driven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Received per Minute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ntity EJ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ooledBeans, Ready Beans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CA Connection Poo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vailable Connections, Min/Max/Total Connections, Connections Created/Destroyed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JMS Destinat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Messages in Queue, Received Count, …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8077320" cy="4941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onitoring of JBoss Serv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220968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3623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Service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deploy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in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449568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0" y="4495680"/>
            <a:ext cx="82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s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collected</a:t>
            </a:r>
            <a:br>
              <a:rPr sz="1200"/>
            </a:b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for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43320" y="2624040"/>
            <a:ext cx="4648320" cy="30492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41560" y="2112840"/>
            <a:ext cx="304920" cy="182880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3886200"/>
            <a:ext cx="1752840" cy="20574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371600" y="2895480"/>
            <a:ext cx="3581280" cy="30481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4000" y="594360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Green=goo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52680" y="3962520"/>
            <a:ext cx="4572000" cy="1218960"/>
          </a:xfrm>
          <a:prstGeom prst="ellipse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819160" y="4572000"/>
            <a:ext cx="533160" cy="144792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86000" y="6019920"/>
            <a:ext cx="102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cc0000"/>
                </a:solidFill>
                <a:latin typeface="Arial"/>
              </a:rPr>
              <a:t>Metric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rill Into JVM Free Memory Grap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33960" cy="45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14600" y="1219320"/>
            <a:ext cx="5181480" cy="51973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figure Metric Col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3429000" y="1523880"/>
            <a:ext cx="990720" cy="30492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1752120" y="1676520"/>
            <a:ext cx="1676520" cy="30456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9160" y="1981080"/>
            <a:ext cx="2146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witch to the “Configure”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view to configure metric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collection inter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1904760" y="3809880"/>
            <a:ext cx="609480" cy="99072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1904760" y="2362320"/>
            <a:ext cx="685800" cy="1295280"/>
          </a:xfrm>
          <a:prstGeom prst="line">
            <a:avLst/>
          </a:prstGeom>
          <a:ln w="936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0600" y="3505320"/>
            <a:ext cx="160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Select the metrics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o be configu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3760" y="4278240"/>
            <a:ext cx="153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nd then define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their new interval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(or disable th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67000" y="5057640"/>
            <a:ext cx="895320" cy="1067040"/>
          </a:xfrm>
          <a:custGeom>
            <a:avLst/>
            <a:gdLst/>
            <a:ahLst/>
            <a:rect l="l" t="t" r="r" b="b"/>
            <a:pathLst>
              <a:path w="1095" h="470">
                <a:moveTo>
                  <a:pt x="13" y="0"/>
                </a:moveTo>
                <a:lnTo>
                  <a:pt x="0" y="470"/>
                </a:lnTo>
                <a:lnTo>
                  <a:pt x="1095" y="470"/>
                </a:lnTo>
              </a:path>
            </a:pathLst>
          </a:custGeom>
          <a:noFill/>
          <a:ln w="93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4038480" cy="38088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78040" y="3798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Server Alert Defini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can set alerts for any collected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6-01-20T18:56:03Z</dcterms:modified>
  <cp:revision>68</cp:revision>
  <dc:subject/>
  <dc:title>Agent Overview</dc:title>
</cp:coreProperties>
</file>