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696B-EFBB-49BB-9FA3-FDDC87FD6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other metrics available on the Hibernate statistics MBean. This is only recording one piece of inforrmation, the EntityInsertCo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vailability metric is required to define a service, since Hibernate doesn’t have an availability setting, I used the deployer’s status like some other services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tal, updated hq-plugin.xml for the JBoss Plugin is below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name="jboss" class="JBossProductPlugi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np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common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-jsr77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bossall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log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client/jmx-rmi-connector-cli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system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jmx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default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minima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server/all/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jboss-management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lib/dom4j.ja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lasspath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appended to each template by MeasurementInfoXML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template-confi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ava.naming.provider.url=%java.naming.provider.ur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TxManag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:service=TransactionManage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JMSMessageCach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:service=Message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anagement.local:name=%ejb.name%,J2EEServer=Local,J2EEApplication=%j2ee.application%,EJBModule=%ejb.jar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Servic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2ee:jndiName=%ejb.name%,service=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Pool" value="${EJBService},plugin=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filter name="EJBCache" value="${EJBService},plugin=cach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ObjectName properties used in the control plugin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MS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mq.destination:service=Queue,name=%jms.destination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operty name="JCAConnectio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alue="jboss.jca:service=ManagedConnectionPool,name=%jca.connpool%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Entity Insert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Hibernate:type=statistics:EntityInser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service=MainDeployer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ServerInfo metrics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ctive Thread Group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ctiveThreadGroup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Free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Free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Total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VM Max 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jboss.system:type=ServerInfo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transaction manager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Activ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Transa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Commit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Comm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Commit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ransactions Rolledbac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xRollback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TxManager}:Rollback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Total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Hit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Misse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THROUGHPU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Current Memory 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MemoryUs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High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High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JMS Message Cache Max Memory 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MemoryMark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Message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MS Destination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in Que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QueueDepth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ceivers 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Receivers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MSQueu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JCA Connection Pool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in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in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stat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Total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le Connectio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leConnection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Creat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Cre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onnections Destroy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onnectionDestroy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JCAConnectionPool}:StateString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less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thod-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thod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e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assi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StatefulSessio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ady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ady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ed Bean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Pool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ache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Passivated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Cache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Current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axPool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MaxSiz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Pool}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Entity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3.2 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Creat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Creat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Remove Call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Remov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fals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Messages Received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StatisticMessageCou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${alias}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UTILIZ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no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trendsup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 name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ias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late="${EJB},j2eeType=MessageDrivenBean:StateManageabl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y="AVAILABILIT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On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dicator="tru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ts="percentag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ionType="dynamic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-- note that the templates are not exactly the sa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boss 4.0 changed the case of some attribute nam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JBoss4MeasurementPlugin.translate method makes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djustments.  --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" include="JBoss 3.2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MS Destinatio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JCA Connection Poo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less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less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Stateful Sessio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Stateful Sessio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Entity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Entity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 name="JBoss 4.0 Message Driven EJB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JBoss 3.2 Message Driven 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head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b&gt;jboss.installpath&lt;/b&gt; must be configured in agent.properti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example:&lt;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re&gt;   jboss.installpath=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help name="footer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![CDATA[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r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]]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help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name="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Nam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ejb.ja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EJB Module (JAR)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2ee.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2EE Applic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3.2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Application Server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atforms="Unix,Win3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ava.naming.provider.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Naming Provider UR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jnp://localhost:1099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autoinventory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Detector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Server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/**/server/*/conf/jboss-service.xml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ca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less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Stateful Sessio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Entity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Message Driven EJB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 include="EJB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Hibernat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Hibernate" description="Hibernate statistics" 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include name="Hibernate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metrics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MS Destination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ms.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MS Destination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MS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removeAllMessages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ice name="JCA Connection Pool" internal="true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option name="jca.conn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cription="JCA Connection Po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fault="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config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contro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JCAControl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actions include="stop,start,restart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ic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server name="JBoss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rsion="4.0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="3.2"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plugin type="measurement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="JBoss4MeasurementPlugin"/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server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/plugin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important 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0E612362-028C-4134-854E-E254FE41AF57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-4680"/>
            <a:ext cx="1550880" cy="96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hibernate.org/216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lug-ins and the PD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4290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BossNetwork Enterprise Manag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metric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lace the following in hq-plugin.xml with the metric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oks for an MBean registered as “Hibernate:type=statistics” with a property of “EntityInsertCount”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s name="Hibernate"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Entity Insert 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Hibernate:type=statistics:EntityInsertCoun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THROUGHPUT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non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metric name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alias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template="jboss.system:service=MainDeployer:StateString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ategory="AVAILABILITY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defaultOn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indicator="tru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units="percentage"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collectionType="dynamic"/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Define the servic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95080" y="117936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850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dd the service definition to the JBoss Server setu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service name="Hibernate"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include name="Hibernate"/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metrics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/service&g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sul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42064" t="40602" r="17946" b="46088"/>
          <a:stretch/>
        </p:blipFill>
        <p:spPr>
          <a:xfrm>
            <a:off x="380880" y="4473720"/>
            <a:ext cx="8304480" cy="1774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95440" y="1185840"/>
            <a:ext cx="800100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352080" indent="-35208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ce deployed, the JBoss plug-in will be able to auto-inventory your Hibernate statistics MBe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 will see a new service type in the services drop-down of Hibern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0760" indent="-32724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Entity insert count will be recorded regularly as any other metr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rough this system, any custom MBean deployment can be integrated into the EM platform to provide detailed metrics, customized control and availability information without new developm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rchite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ustomiz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ibernate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lug-ins are self-contained jar files deployed on both the server and agent sid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sist of implementations of the PDK (Plugin Development Kit)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 hq-plugin.xml descript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erver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erver reads metadata from a plug-in to gather inventory structu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s, servers and servi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detai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here to read from and what property to re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type of da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figuration settings for a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 opera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t use of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executes the plug-in implementation of the following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 (metric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ntro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 and discove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sponse tim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typ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efines other plug-in types and their implementations in XML (hq-plugin.xml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MeasurementPlugin.getValue to retrieve metrics declar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ControlPlugin.doAction to implement operation defined in product descrip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to Inventor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lement ServerDetector.discoverServi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lug-in Descriptor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XML section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asspath – what libraries are needed by the plug-i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lter – variable replacement based on service nam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rics – defines groups of metrics that may be monitor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er – defines a server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rvice – defines a service resour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oss plug-in featur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plug-in supports generic JMX access within a JBoss inst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numeric JMX property can be read and stored as a metr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y JMX operation with no arguments can be called as an ac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search running processes and the files system to auto-detect JBo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 only connect to homogenous JBoss versions from a single agent/plug-in instan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xtend the JBoss Plug-i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e will monitor the Hibernate statistics MBe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an application using Hibernate that creates and registers the statistics features (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1"/>
              </a:rPr>
              <a:t>http://www.hibernate.org/216.html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s updating the jboss-plugin.jar in both the server and the agent deploy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ghinkle</cp:lastModifiedBy>
  <dcterms:modified xsi:type="dcterms:W3CDTF">2005-07-13T08:33:53Z</dcterms:modified>
  <cp:revision>45</cp:revision>
  <dc:subject/>
  <dc:title>JBN Enterprise Management</dc:title>
</cp:coreProperties>
</file>