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19E4-699C-4E6A-850B-2C01F5AA2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t control a platform but you can control a JBoss or Tomcat Server or a JCA Connection Pool Serv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not currently supporting passing arguments to an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JBoss 3.2 Server from the list of Servers and then click on the Control tab. Show the actions which are available. Hit the New button under Control Action Schedule and show how actions can be schedu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Alert tab for the JBoss 3.2 server and then hit the New button. Go ahead and create an alert for “transaction rolled back &gt; 0” and enable actions “Each time conditions are exceeded or met“.  Hit OK. Add a notification to the jbnadmin user and a control action to restart the server. Go back to the Alert tab and hit the Alerts button, describe that this is where the alerts would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which can trigger an alert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metric exceeding/dropping below a certain value, e.g JVM Free Memory drops below 10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ontrol action starts/succeeds/f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s can be made conditional on more than one event generated by the resource e.g. signal an alert when Free Memory &lt;10MB and no of active txn’s is zero, since this is a good time to restart the server. Alerts can also be used to aggregate events, e.g. generate an Alert if a particular event occurs 10times in 1h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bility to add a DataSource to a JBos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ing a DataSource configuration will actually update its deployment descriptor so that the change is per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the Manage tab and show how there is nothing there currently. This is were new actions will go.]</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hoose DashBoard. Review the various portlets which are available. Demonstrate Search Portlet. Say will talk about Auto-discovery/Recently Added Resources portlets in the next presentation. Show adding a resource to the Favorite Resources portlet. Show where Recent alerts would be listed and where recently executed control actions go.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 picked out a few of the more interesting portlets which are displayed on the Dashboard. Information on all of the portlets on the DashBoard is available in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o discovery portlet lists out the resources which JBN EM has automatically discovered in your environment. You can then choose whether to import them into the inventory or ignore them.</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vorite resources portlet. This is especially good for services, since you can end up with many hundreds of services installed. To save you the effort of navigating through the browse resources pages, you can just add resources you look at frequently to the dashboard.</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ent Alerts portlet: As it says on the can, provides a list of alerts which have occurred recently. Can configure for which resources to show alerts for.</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Actions portlet: Lists out control actions which have been executed recently.</a:t>
            </a:r>
            <a:endParaRPr b="0" lang="en-US" sz="800" spc="-1" strike="noStrike">
              <a:solidFill>
                <a:srgbClr val="000000"/>
              </a:solidFill>
              <a:latin typeface="Arial"/>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Resources portlet: Lists out resources for which an alert has been fired, or for which a metric has gone ‘out of bounds’ (more on this in the GUI2 presentation).</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hoose Administration Link: Show listing of users, listing of roles. Show configuration of JBNEM, show configuration of default metric coll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default users are stored in JBN EM’s own database, can be configured the Administration section to use LDAP as a user reg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can be created and deleted via Por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can be created with specific privileges, e.g. being able to control resources, and then users are associated with roles, and finally groups of resources are associated with roles. This mechanism enables very granular access control, i.e. users can be restricted to seeing/doing specific things on specific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NEM configuration options include for example deciding how frequently the database re-indexing runs and also setting the defaults for which metrics are collected for which resour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platform for the users local machine. Go to the inventory page and add a new FileServer Directory Servic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the path variable to be a temp folder, e.g. C:/tmp/jbnem making sure to get slashes righ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t the interval to be like 10secs on the Monitor&gt;Configure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a:t>
            </a:r>
            <a:r>
              <a:rPr b="1" lang="en-US" sz="1200" spc="-1" strike="noStrike">
                <a:solidFill>
                  <a:srgbClr val="000000"/>
                </a:solidFill>
                <a:latin typeface="Arial"/>
              </a:rPr>
              <a:t>Metric Display Range</a:t>
            </a:r>
            <a:r>
              <a:rPr b="0" lang="en-US" sz="1200" spc="-1" strike="noStrike">
                <a:solidFill>
                  <a:srgbClr val="000000"/>
                </a:solidFill>
                <a:latin typeface="Arial"/>
              </a:rPr>
              <a:t> in on the Monitor&gt;Visibility page to be say 8mins to see the metrics coming i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dd new Files to the folder, add new subfolders. See the graphs change in JBNEM, see the metric data change Monitor&gt;Visibility&gt;Metric Data.</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Just need to specify a name, a metric to look at, e.g. Total (files), and a condition e.g. &gt; 3. Leave everything at defaults we will talk about more of the settings in the next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dding more files to folder should trigger the alert which will show up on the dashboa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lab is a very simple exercise to show that control action actually work, and have an impact on the metrics being colle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gain need to set collection interval to something short like 30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viously the Portal is the only UI from which you can view the charting capabilities of the product, to display health and performance metrics for the resources under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uts application does have the concept of portlets, but they are implemented as Struts T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an run standalone on Tomcat. The only time when the Portal would normally need to be configured to run standalone is during development, so that JBoss doesn’t have to be restarted each time a change is made, or in product systems where there is a very heavy load on the JBN EM server and the Portal can be run on a separate machine to reduce lo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web browser. You can either click through the JBN EM or follow along in the ppt and watch</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p Dashboard, will come back to once we’ve looked at the Resource View, since the Dashboard aggregates lots of the information from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Browse Resources, click through various lists of resources (leave groups and apps until the next session). Switch to the chart view to show thumb-nail images of the availability and some of the other indicators which are collected for each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form, i.e. physical mach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r, e.g. Apache, WebLog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 e.g. ConnectionPool, EJ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 come back to the various collections in the next presentation, but suffice to say the various group categories exist to help aggregate information about resources, e.g. you could have a group of platforms, and be able to see the availability of all those platforms on one scr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tering, e.g. show me all JBoss 3.2 servers, show all Entity EJB’s. This is critical when managing large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Highlight the M, I, C, A icons as a way to get to the various sub-section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back to Platform view and click on the platform JBNEM is hosted on. View the indicator graphs to show availability and performance/health metrics such as CPU usage and free memory. Click on the bar beneath all the charts to highlight a particular time across all the charts. Then click on the Metric Data sub-tab to show all collected metrics in a tabular format. Click on the Configure button to list all available metrics, demonstrate turning on collection of CPU idle seconds, setting collection interval to 1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lick on the Inventory tab to show for the platform to see the data which is available, and the servers and services which are contained by the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For a server the list of contained services will be displayed. For a platform it will show, amongst other things, the servers which are installed on the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For a service, e.g. JCA Conn. Pool, it will show the containing Server, e.g. JB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What type of configuration information is displayed depends on the resource. Platforms have lots of information while ConnectionPools don’t really have that much. However it is just information which JBN EM uses to locate and identify the resource, e.g. for a Connection Pool you can update the name of the pool, but this will not actually update the deployment descriptor that created the connection pool. [Not yet at least </a:t>
            </a:r>
            <a:r>
              <a:rPr b="0" lang="en-US" sz="1200" spc="-1" strike="noStrike">
                <a:solidFill>
                  <a:srgbClr val="000000"/>
                </a:solidFill>
                <a:latin typeface="Wingdings"/>
                <a:ea typeface="Wingdings"/>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936FE320-7766-4FC6-B6DD-1E739C358B20}"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Introduction</a:t>
            </a:r>
            <a:r>
              <a:rPr b="0" lang="en-US" sz="3600" spc="-1" strike="noStrike">
                <a:solidFill>
                  <a:srgbClr val="000000"/>
                </a:solidFill>
                <a:latin typeface="Verdana"/>
              </a:rPr>
              <a:t>	</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overview of the JBN Enterprise Management Portal</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p:txBody>
      </p:sp>
      <p:pic>
        <p:nvPicPr>
          <p:cNvPr id="109"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rol</a:t>
            </a:r>
            <a:endParaRPr b="0" lang="en-US" sz="28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lows execution of particular actions on a resource.</a:t>
            </a:r>
            <a:endParaRPr b="0" lang="en-US" sz="2200" spc="-1" strike="noStrike">
              <a:solidFill>
                <a:srgbClr val="000000"/>
              </a:solidFill>
              <a:latin typeface="Verdana"/>
            </a:endParaRPr>
          </a:p>
          <a:p>
            <a:pPr lvl="1" marL="90792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ly available for certain resources. Available actions depend on resource type.</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137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n view history of previously executed control actions.</a:t>
            </a:r>
            <a:endParaRPr b="0" lang="en-US" sz="2200" spc="-1" strike="noStrike">
              <a:solidFill>
                <a:srgbClr val="000000"/>
              </a:solidFill>
              <a:latin typeface="Verdana"/>
            </a:endParaRPr>
          </a:p>
          <a:p>
            <a:pPr lvl="1" marL="907920" indent="0">
              <a:lnSpc>
                <a:spcPct val="90000"/>
              </a:lnSpc>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ctions can be executed immediately or scheduled for later execution (may be recurring or non-recurring schedule).</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a:t>
            </a:r>
            <a:endParaRPr b="0" lang="en-US" sz="3400" spc="-1" strike="noStrike">
              <a:solidFill>
                <a:srgbClr val="000000"/>
              </a:solidFill>
              <a:latin typeface="Verdana"/>
            </a:endParaRPr>
          </a:p>
        </p:txBody>
      </p:sp>
      <p:pic>
        <p:nvPicPr>
          <p:cNvPr id="11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rts</a:t>
            </a:r>
            <a:endParaRPr b="0" lang="en-US" sz="28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are raised when specific conditions are met on:</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or more metric values, e.g. JVM Free mem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rol action status values, e.g. JBoss restart status. </a:t>
            </a:r>
            <a:endParaRPr b="0" lang="en-US" sz="2000" spc="-1" strike="noStrike">
              <a:solidFill>
                <a:srgbClr val="000000"/>
              </a:solidFill>
              <a:latin typeface="Verdana"/>
            </a:endParaRPr>
          </a:p>
          <a:p>
            <a:pPr lvl="2" marL="1305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an Alert is generated:</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t is stored in the Alert History.</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n email can be sent to JBNEM users, JBNEM roles or external email addresses.</a:t>
            </a:r>
            <a:endParaRPr b="0" lang="en-US" sz="2000" spc="-1" strike="noStrike">
              <a:solidFill>
                <a:srgbClr val="000000"/>
              </a:solidFill>
              <a:latin typeface="Verdana"/>
            </a:endParaRPr>
          </a:p>
          <a:p>
            <a:pPr lvl="2" marL="1305000" indent="-395280">
              <a:lnSpc>
                <a:spcPct val="80000"/>
              </a:lnSpc>
              <a:spcBef>
                <a:spcPts val="49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onally) a control action can be executed.</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lnSpc>
                <a:spcPct val="8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erts can be enabled or disabled individually or collectively.</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s</a:t>
            </a:r>
            <a:endParaRPr b="0" lang="en-US" sz="3400" spc="-1" strike="noStrike">
              <a:solidFill>
                <a:srgbClr val="000000"/>
              </a:solidFill>
              <a:latin typeface="Verdana"/>
            </a:endParaRPr>
          </a:p>
        </p:txBody>
      </p:sp>
      <p:pic>
        <p:nvPicPr>
          <p:cNvPr id="11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1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anag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ing soon…</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nage actions will enable users to actually update resources being managed, rather than just changing the information which JBN EM maintains about the resour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sp>
        <p:nvSpPr>
          <p:cNvPr id="12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ggregates many aspects from the Resource vie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st interesting portle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avorite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cent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Resource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ashboard</a:t>
            </a:r>
            <a:endParaRPr b="0" lang="en-US" sz="3400" spc="-1" strike="noStrike">
              <a:solidFill>
                <a:srgbClr val="000000"/>
              </a:solidFill>
              <a:latin typeface="Verdana"/>
            </a:endParaRPr>
          </a:p>
        </p:txBody>
      </p:sp>
      <p:pic>
        <p:nvPicPr>
          <p:cNvPr id="123"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1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uses its own authentication/authorization subsystem.</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for JBN EM configuration via Portal.</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pic>
        <p:nvPicPr>
          <p:cNvPr id="127"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Architectur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ey Portal area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ource Vie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ashboard</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dministration</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ortal Walkthrough.</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Help</a:t>
            </a:r>
            <a:endParaRPr b="0" lang="en-US" sz="3400" spc="-1" strike="noStrike">
              <a:solidFill>
                <a:srgbClr val="000000"/>
              </a:solidFill>
              <a:latin typeface="Verdana"/>
            </a:endParaRPr>
          </a:p>
        </p:txBody>
      </p:sp>
      <p:sp>
        <p:nvSpPr>
          <p:cNvPr id="12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cess to the online help system is through a link on every pag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Online context sensitive for each page is also availab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neral Help</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Index</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ecific to the Portal UI</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ttp://151.204.189.89:8080/xwiki/bin/view/JBN/Console+Referen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 1: Metrics and Alerts</a:t>
            </a:r>
            <a:endParaRPr b="0" lang="en-US" sz="3400" spc="-1" strike="noStrike">
              <a:solidFill>
                <a:srgbClr val="000000"/>
              </a:solidFill>
              <a:latin typeface="Verdana"/>
            </a:endParaRPr>
          </a:p>
        </p:txBody>
      </p:sp>
      <p:sp>
        <p:nvSpPr>
          <p:cNvPr id="13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 FileServer Directory servic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directory and view metric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d an alert to the service and trigger i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 2: Metrics and Control Actions</a:t>
            </a:r>
            <a:endParaRPr b="0" lang="en-US" sz="30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metric collection interval for JCA Con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e metrics are collect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ssue a Stop control action on the JCA Connection pool.</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view changes in displayed metric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Portal is one of two interfaces for accessing the JBNEM functionality (other being CLI).</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t JSR-168 portal, but a custom Struts web applicatio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ormally runs in the JBoss (Tomcat) instance which runs JBNEM Server itself.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ey Sections</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Portal contains 3 keys section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ource View – Allows viewing of performance/health metrics on all resources under management. Supports execution of actions on certain resources, e.g. stop/start JBos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 Aggregates various information into a single screen.</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 Contains user and role management and access control definition for both Portal and CLI.</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isting managed resour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dividual resource categories: Platforms, Servers and Services (e.g. ConnectionPools, EJB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rouping resource categories: Compatible Groups, Mixed Groups, Applications.</a:t>
            </a:r>
            <a:endParaRPr b="0" lang="en-US" sz="2200" spc="-1" strike="noStrike">
              <a:solidFill>
                <a:srgbClr val="000000"/>
              </a:solidFill>
              <a:latin typeface="Verdana"/>
            </a:endParaRPr>
          </a:p>
          <a:p>
            <a:pPr lvl="1" marL="9079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sts can be filtered by resource type.</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ntry point for resource viewing and selec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List</a:t>
            </a:r>
            <a:endParaRPr b="0" lang="en-US" sz="3400" spc="-1" strike="noStrike">
              <a:solidFill>
                <a:srgbClr val="000000"/>
              </a:solidFill>
              <a:latin typeface="Verdana"/>
            </a:endParaRPr>
          </a:p>
        </p:txBody>
      </p:sp>
      <p:pic>
        <p:nvPicPr>
          <p:cNvPr id="101"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metric values collected on a resource over time.</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view metric values in three way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High-level chart (defaul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ch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aw metric data.</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figure which metrics are actually collected and how frequently they are collected (called the “metric collection interv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pic>
        <p:nvPicPr>
          <p:cNvPr id="105" name="" descr=""/>
          <p:cNvPicPr/>
          <p:nvPr/>
        </p:nvPicPr>
        <p:blipFill>
          <a:blip r:embed="rId1"/>
          <a:stretch/>
        </p:blipFill>
        <p:spPr>
          <a:xfrm>
            <a:off x="595440" y="1185840"/>
            <a:ext cx="8001000" cy="514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View</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nventory</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hows detailed configuration information about the resource. There are four categori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ype information, e.g. JBoss 3.2, 4.0.</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it contains, e.g. Servers on this Platform.</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ist of resources which contain it, e.g. Groups containing this Serve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information used by JBN EM, e.g. location of run.bat for JBoss.</a:t>
            </a:r>
            <a:endParaRPr b="0" lang="en-US" sz="23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7T19:17:31Z</dcterms:created>
  <dc:creator>Charles Crouch</dc:creator>
  <dc:description/>
  <dc:language>en-US</dc:language>
  <cp:lastModifiedBy>Charles Crouch</cp:lastModifiedBy>
  <dcterms:modified xsi:type="dcterms:W3CDTF">2005-07-11T02:10:53Z</dcterms:modified>
  <cp:revision>46</cp:revision>
  <dc:subject/>
  <dc:title>GUI Overvewi </dc:title>
</cp:coreProperties>
</file>