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55A1-96A0-440A-BF15-8F552B6695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localhost:7080/admin/config/EditDefaults.do?mode=monitor"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localhost:7080/hyperic-hq/jmx-attributes?dmp=hyperic-hq:*" TargetMode="External"/><Relationship Id="rId2" Type="http://schemas.openxmlformats.org/officeDocument/2006/relationships/hyperlink" Target="http://localhost:7080/hyperic-hq/jmx-attributes?dmp=hyperic-hq:*" TargetMode="External"/><Relationship Id="rId3" Type="http://schemas.openxmlformats.org/officeDocument/2006/relationships/slide" Target="../slides/slide5.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metric on a FileServer directory, regular files metric, provides a count of fi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group, user that ca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other user not member of that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be create another default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eave auto-disco for next session. Just concentrate on metrics enabled in a full install.could do a lab where they install tomcat and it gets autodiscovered., maybe just do a metric on avai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n alert on an existing metric and trigger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favorite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a control action, and see availability dr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version requires different configuration changes to be made to it in order for it to be monitored and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unately when editing the Configuration Properties on the Inventory page for a Tomcat instance you get given the instructions which you need to follow to configure it prope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 page of the JON Tomcat 5.5 instance and show the instructions for configuring 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rics</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mcat: e.g. </a:t>
            </a:r>
            <a:r>
              <a:rPr b="0" lang="en-US" sz="1200" spc="-1" strike="noStrike">
                <a:solidFill>
                  <a:srgbClr val="000000"/>
                </a:solidFill>
                <a:latin typeface="Arial"/>
              </a:rPr>
              <a:t>Number of Requests Served, JVM/CPU related s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pps: e.g. Average Response Time, Sessions Created per Minute , Number of errors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lets: e.g. Request Cou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s: e.g. Bytes Received per Minute, Bytes Sent per Min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 the control actions only work if Tomcat has been installed as a windows service, not if it is being run from startup.b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Administration page then click on </a:t>
            </a:r>
            <a:r>
              <a:rPr b="0" lang="en-US" sz="1200" spc="-1" strike="noStrike" u="sng">
                <a:solidFill>
                  <a:srgbClr val="009999"/>
                </a:solidFill>
                <a:uFillTx/>
                <a:latin typeface="Arial"/>
                <a:hlinkClick r:id="rId1"/>
              </a:rPr>
              <a:t>Monitoring Defaults Configuration</a:t>
            </a:r>
            <a:r>
              <a:rPr b="0" lang="en-US" sz="1200" spc="-1" strike="noStrike">
                <a:solidFill>
                  <a:srgbClr val="000000"/>
                </a:solidFill>
                <a:latin typeface="Arial"/>
              </a:rPr>
              <a:t> and checkout in detail what stats are collect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MO: </a:t>
            </a:r>
            <a:endParaRPr b="0" lang="en-US" sz="9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q-filter.jar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eb.xml updated in default\</a:t>
            </a:r>
            <a:r>
              <a:rPr b="0" lang="en-US" sz="1400" spc="-1" strike="noStrike">
                <a:solidFill>
                  <a:srgbClr val="000000"/>
                </a:solidFill>
                <a:latin typeface="Arial"/>
              </a:rPr>
              <a:t>deploy\jbossweb-tomcat41.sar</a:t>
            </a:r>
            <a:endParaRPr b="0" lang="en-US" sz="1400" spc="-1" strike="noStrike">
              <a:solidFill>
                <a:srgbClr val="000000"/>
              </a:solidFill>
              <a:latin typeface="Arial"/>
            </a:endParaRPr>
          </a:p>
          <a:p>
            <a:pPr marL="2286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228600">
              <a:spcBef>
                <a:spcPts val="52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time logs generated to default\log</a:t>
            </a:r>
            <a:endParaRPr b="0" lang="en-US" sz="14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et all metric intervals to 30secs so that we can see updates more quickly and set </a:t>
            </a:r>
            <a:r>
              <a:rPr b="1" lang="en-US" sz="1000" spc="-1" strike="noStrike">
                <a:solidFill>
                  <a:srgbClr val="000000"/>
                </a:solidFill>
                <a:latin typeface="Arial"/>
              </a:rPr>
              <a:t>Metric Display Range:</a:t>
            </a:r>
            <a:r>
              <a:rPr b="0" lang="en-US" sz="1000" spc="-1" strike="noStrike">
                <a:solidFill>
                  <a:srgbClr val="000000"/>
                </a:solidFill>
                <a:latin typeface="Arial"/>
              </a:rPr>
              <a:t> to be 1hr, or something appropriate to capture any recent activity.</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Server you can see that the webapps are correctly configured by doing the following…</a:t>
            </a: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owse to the Tomcat 5.5 instance in the JON portal and go to the Inventory page. Click on Configuration Properties Edit button, right at the bottom of the page. Now go down right to the bottom of the instructions and click on </a:t>
            </a:r>
            <a:r>
              <a:rPr b="0" lang="en-US" sz="900" spc="-1" strike="noStrike" u="sng">
                <a:solidFill>
                  <a:srgbClr val="009999"/>
                </a:solidFill>
                <a:uFillTx/>
                <a:latin typeface="Arial"/>
                <a:hlinkClick r:id="rId1"/>
              </a:rPr>
              <a:t>JMX </a:t>
            </a:r>
            <a:r>
              <a:rPr b="0" lang="en-US" sz="900" spc="-1" strike="noStrike" u="sng">
                <a:solidFill>
                  <a:srgbClr val="009999"/>
                </a:solidFill>
                <a:uFillTx/>
                <a:latin typeface="Arial"/>
                <a:hlinkClick r:id="rId2"/>
              </a:rPr>
              <a:t>Servlet</a:t>
            </a:r>
            <a:r>
              <a:rPr b="0" lang="en-US" sz="900" spc="-1" strike="noStrike">
                <a:solidFill>
                  <a:srgbClr val="000000"/>
                </a:solidFill>
                <a:latin typeface="Arial"/>
              </a:rPr>
              <a:t> link (</a:t>
            </a:r>
            <a:r>
              <a:rPr b="0" lang="en-US" sz="1200" spc="-1" strike="noStrike">
                <a:solidFill>
                  <a:srgbClr val="000000"/>
                </a:solidFill>
                <a:latin typeface="Arial"/>
              </a:rPr>
              <a:t>http://localhost:7080/jbnem-monitor/jmx-attributes?dmp=jbnem-monitor:*</a:t>
            </a:r>
            <a:r>
              <a:rPr b="0" lang="en-US" sz="900" spc="-1" strike="noStrike">
                <a:solidFill>
                  <a:srgbClr val="000000"/>
                </a:solidFill>
                <a:latin typeface="Arial"/>
              </a:rPr>
              <a:t>). Check there are entries there with “</a:t>
            </a:r>
            <a:r>
              <a:rPr b="0" lang="en-US" sz="1200" spc="-1" strike="noStrike">
                <a:solidFill>
                  <a:srgbClr val="000000"/>
                </a:solidFill>
                <a:latin typeface="Arial"/>
              </a:rPr>
              <a:t>Name: jbnem-monitor:type=Context,name=/jbnem-portal </a:t>
            </a:r>
            <a:r>
              <a:rPr b="0" lang="en-US" sz="900" spc="-1" strike="noStrike">
                <a:solidFill>
                  <a:srgbClr val="000000"/>
                </a:solidFill>
                <a:latin typeface="Arial"/>
              </a:rPr>
              <a:t>” this is the JBoss ON portal app.</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endParaRPr b="0" lang="en-US" sz="9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228600">
              <a:lnSpc>
                <a:spcPct val="90000"/>
              </a:lnSpc>
              <a:spcBef>
                <a:spcPts val="337"/>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tested with unzipping Tomcat, not the windows installer but both should work. In order for the control actions to work for Tomcat itself on windows, it should be installed as a servic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o set CATALINA_HOME to wherever you unzip i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heck it with http://localhost:8080/jsp-example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 Carrying out auto-discovery in general is still somewhat fragile. The best option is to make sure Tomcat is started and then restart the agen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 Easiest if you stop Tomcat first</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hould just be able to paste the whole chunk of xml into the top of the web.xml</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ke sure the responseTimeLogDir folder you specify exists, create it if not. On Windows make sure to use forward slashes in the folder path.</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 Clicking the OK button on the edit configuration properties page for the Tomcat server will auto-discover the webapps and connnectors.</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 Adjust the collection interval on the web app metrics to be collected say once a minute</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 </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 On Windows, Control Actions on the Tomcat Server will only work if Tomcat was installed as a Windows Service.</a:t>
            </a:r>
            <a:endParaRPr b="0" lang="en-US" sz="9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ert will only show up on dashboard if it is a High Priority one, or you’ve changed the default dashboard preferenc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323A817F-4EE4-46FF-9555-ECD1A373C358}"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omcat in JBoss ON</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view of the features for monitoring Tomcat and a walk through of the configuration step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versions of Tomcat. </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upported Metrics and Control Ac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ation of Tomcat for JBoss ON.</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upported versions of Tomcat</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mcat</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4.1</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0</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5.5</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Metrics and Actions</a:t>
            </a:r>
            <a:endParaRPr b="0" lang="en-US" sz="30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nectors (not 4.0)</a:t>
            </a:r>
            <a:endParaRPr b="0" lang="en-US" sz="2600" spc="-1" strike="noStrike">
              <a:solidFill>
                <a:srgbClr val="000000"/>
              </a:solidFill>
              <a:latin typeface="Verdana"/>
            </a:endParaRPr>
          </a:p>
          <a:p>
            <a:pPr lvl="1" marL="9079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omcat Server: Start/Stop/Restart</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apps: Start/Stop/Reloa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ation</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ill walkthrough configuration of a web application:</a:t>
            </a:r>
            <a:endParaRPr b="0" lang="en-US" sz="26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ok at monitoring information on the JON portal itself</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hq-filter.jar present.</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pdates made to web.xml.</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sponse time logs generated.</a:t>
            </a:r>
            <a:endParaRPr b="0" lang="en-US" sz="2200" spc="-1" strike="noStrike">
              <a:solidFill>
                <a:srgbClr val="000000"/>
              </a:solidFill>
              <a:latin typeface="Verdana"/>
            </a:endParaRPr>
          </a:p>
          <a:p>
            <a:pPr lvl="1" marL="966960" indent="-495360">
              <a:spcBef>
                <a:spcPts val="550"/>
              </a:spcBef>
              <a:buClr>
                <a:srgbClr val="cc0000"/>
              </a:buClr>
              <a:buSzPct val="90000"/>
              <a:buFont typeface="Verdana"/>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figure collection of metrics.</a:t>
            </a:r>
            <a:endParaRPr b="0" lang="en-US" sz="2200" spc="-1" strike="noStrike">
              <a:solidFill>
                <a:srgbClr val="000000"/>
              </a:solidFill>
              <a:latin typeface="Verdana"/>
            </a:endParaRPr>
          </a:p>
          <a:p>
            <a:pPr lvl="1" marL="96696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regular web app metrics.</a:t>
            </a:r>
            <a:endParaRPr b="0" lang="en-US" sz="2200" spc="-1" strike="noStrike">
              <a:solidFill>
                <a:srgbClr val="000000"/>
              </a:solidFill>
              <a:latin typeface="Verdana"/>
            </a:endParaRPr>
          </a:p>
          <a:p>
            <a:pPr lvl="1" marL="966960" indent="-495360">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View web app response time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Configure Tomcat 5.5</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nstall Tomcat 5.5.</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art it and have it auto-discovered by JO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Update the Tomcat install as per instructions on Inventory pag.</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ick off discovery of web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igure collection intervals (say 1min).</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y with Tomcat app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ew metrics in JON Port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Control and Alert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top/Start web apps and Tomcat. </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atch availability chang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n alert on a particular metric, e.g. Number of Requests Served per Minut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metric and note Alert on dashboard, and Tomcat is now a problem resource.</a:t>
            </a:r>
            <a:endParaRPr b="0" lang="en-US" sz="2600" spc="-1" strike="noStrike">
              <a:solidFill>
                <a:srgbClr val="000000"/>
              </a:solidFill>
              <a:latin typeface="Verdana"/>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6-03-21T01:03:13Z</dcterms:modified>
  <cp:revision>30</cp:revision>
  <dc:subject/>
  <dc:title>GUI Details</dc:title>
</cp:coreProperties>
</file>