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99A78-2D57-43F0-A81A-8E4F7EBBA8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50920" y="684360"/>
            <a:ext cx="4557600" cy="3417840"/>
          </a:xfrm>
          <a:prstGeom prst="rect">
            <a:avLst/>
          </a:prstGeom>
          <a:ln w="0">
            <a:noFill/>
          </a:ln>
        </p:spPr>
      </p:sp>
      <p:sp>
        <p:nvSpPr>
          <p:cNvPr id="13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 introduction to the command line interface to the new JBoss Network Enterprise Manager and will walk through some of its features.  Hopefully, at the end of this presentation, you will get a sense for what capabilities the JBN EM command line interface prov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alerts, metrics and topology resources) will be better understood if you have already viewed another of our web-ex presentations titled “JBN EM Introduction And Walkthrough” - if you haven’t seen that presentation, its recording is available for download should you wish to view it.  This is something we do highly recommend in order to become familiar with the entire scope of JBN E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50920" y="684360"/>
            <a:ext cx="4557600" cy="3417840"/>
          </a:xfrm>
          <a:prstGeom prst="rect">
            <a:avLst/>
          </a:prstGeom>
          <a:ln w="0">
            <a:noFill/>
          </a:ln>
        </p:spPr>
      </p:sp>
      <p:sp>
        <p:nvSpPr>
          <p:cNvPr id="14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mands allow you to view the metric definitions currently configured in the system as well as getting values for those metrics.  The “metric list” command will show you the metrics that are currently configured (these are the metrics that, if enabled, are getting collected).  Given a date range, it will also list the history of the collected metrics (in other words, you can see the values of the previously collected metric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view” command is similar except is can actually take an immediately reading of a particular metric – giving you a real-time, up-to-date value of a metri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manage your metric definitions by creating and deleting new metric definitions and enabling and disabling the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ric compact” command will compress aging metric data to help manage the data.  This normally occurs automatically on a periodic basis; this command just forces the server to compact the metric data immediately.  I won’t get into detail about what goes on when the data is compressed, but suffice it to say, as metric data ages, it eventually gets purged from the database thus freeing up space in the database for the new metric data getting collecte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50920" y="684360"/>
            <a:ext cx="4557600" cy="3417840"/>
          </a:xfrm>
          <a:prstGeom prst="rect">
            <a:avLst/>
          </a:prstGeom>
          <a:ln w="0">
            <a:noFill/>
          </a:ln>
        </p:spPr>
      </p:sp>
      <p:sp>
        <p:nvSpPr>
          <p:cNvPr id="15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output demonstrates how you can list what metrics are defined for a particular resource – in this case, my JBN Server.  You can see the different types of metrics that are getting collected and how often they are getting coll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ttom output shown here is the “metric view” command – this asked the agent to immediately collect a new value for the metric whose ID is 10062 (which is the “JVM Free Memory” metric – you can see this in the output of the metric list command shown at the top).  The results show the current value of that metric as collected by the agent at that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50920" y="684360"/>
            <a:ext cx="4557600" cy="3417840"/>
          </a:xfrm>
          <a:prstGeom prst="rect">
            <a:avLst/>
          </a:prstGeom>
          <a:ln w="0">
            <a:noFill/>
          </a:ln>
        </p:spPr>
      </p:sp>
      <p:sp>
        <p:nvSpPr>
          <p:cNvPr id="15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e will talk about the commands that provide a mechanism to manage your alert definitions as well as the alerts themselves.  The “alert” command allows you to both view and remove the alerts that have been raised.  Be forewarned, however, that the “alert list” command lists the alerts in a less than user-friendly way – it will show you the alert IDs, the date and time the alerts were raised and the values of the alerts.  To get a more friendlier view of the alerts, you will want to use the JBN EM Console.  The “alert list” command does help to show you the date/time ranges of when the alerts were raised which can help you with the next command we will introduce – the “alert delete” command.  This command allows you to manage your alerts by deleting those alerts you are no longer interested in or care to have remain in the database.  This is really the most useful command out of the alert/alertdef commands we are going to talk about.  See “help alert delete” to get a feel for the different ways you can specify a date range to delete.  The “alert delete” command is a good candidate for use within an automated script that your IT administrators might want to run – it will help clean out any old and obsolete al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mily of “alertdef” commands help you manage your alert definitions.  They are less frequently used since the JBN EM Console GUI is typically used to create and delete alert definition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50920" y="684360"/>
            <a:ext cx="4557600" cy="3417840"/>
          </a:xfrm>
          <a:prstGeom prst="rect">
            <a:avLst/>
          </a:prstGeom>
          <a:ln w="0">
            <a:noFill/>
          </a:ln>
        </p:spPr>
      </p:sp>
      <p:sp>
        <p:nvSpPr>
          <p:cNvPr id="15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illustrate some examples of specifying a range of alerts that are to be deleted.  Notice how you can specify a date range in many ways – from explicitly specifying a date and time to specifying an offset from the current time.  There are many different ways you can specify the date range – again, if you view the help on the “alert delete” command, you can read all about the syntax used for this comman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50920" y="684360"/>
            <a:ext cx="4557600" cy="3417840"/>
          </a:xfrm>
          <a:prstGeom prst="rect">
            <a:avLst/>
          </a:prstGeom>
          <a:ln w="0">
            <a:noFill/>
          </a:ln>
        </p:spPr>
      </p:sp>
      <p:sp>
        <p:nvSpPr>
          <p:cNvPr id="15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family of commands allows you to immediately execute control actions or schedule control actions to be executed in the future.  These commands also allow you to view the history of past executed control actions and view the current schedule of control actions to be executed.  Examples of control actions are “start”, “stop” or “restart”.  Resource types support zero, one or more control action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list” command allows you to view the history of control actions, view the current schedule of control actions that will be executed in the future and to simply view what control actions a resource support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schedule” command will schedule a control action to be executed in the future.  This schedule may be a one-time triggering of the control action or it may be recurring – for example, on a daily, weekly or monthly basis.  The “control schedule” command will also allow you to delete a schedule when you no longer want it to be trigger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ntrol perform” command executes the control action immediately.</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e interesting feature of both the immediate and scheduling of control actions is the ability to schedule multiple control actions to occur synchronously in a specified order when the control action is to be executed on a group of resources.  If you ask to execute a control action to be executed on a compatible group, you can specify the order in which you want the control actions to be executed (as opposed to an asynchronous execution of the control action across all resources in the group in an unspecified order).  One use-case for this feature is the ability to perform controlled, rolling restarts.  Group your servers together, schedule a “restart” control action to be triggered on the group and assign an order in which your servers will be restarted.  One server will be restarted and once that control action completes, the next server in the list will be restart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the “control configure” command allows you to change the resource’s configuration settings that deal specifically with the control subsystem.  Any specific configuration settings that a resource has that affect the way control actions are executed can be changed.  For example, for JBoss resource types, the “control configure” command will prompt you for things such as the full path to the  JBoss “run” script and the time JBN EM will wait for the JBoss server to complete the control action.  Different resource types will have different control configuration settings; the CLI will prompt you for the settings appropriate for the resource whose configuration you want to modify.</a:t>
            </a:r>
            <a:endParaRPr b="0" lang="en-US" sz="9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50920" y="684360"/>
            <a:ext cx="4557600" cy="3417840"/>
          </a:xfrm>
          <a:prstGeom prst="rect">
            <a:avLst/>
          </a:prstGeom>
          <a:ln w="0">
            <a:noFill/>
          </a:ln>
        </p:spPr>
      </p:sp>
      <p:sp>
        <p:nvSpPr>
          <p:cNvPr id="15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wo commands illustrate the “control list” command.  Here we show what commands my JBoss server resource can execute and what control actions were actually executed and when.  The status of the control actions are shown in the history so you can know when a particular control action completed successfully or fail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0920" y="684360"/>
            <a:ext cx="4557600" cy="3417840"/>
          </a:xfrm>
          <a:prstGeom prst="rect">
            <a:avLst/>
          </a:prstGeom>
          <a:ln w="0">
            <a:noFill/>
          </a:ln>
        </p:spPr>
      </p:sp>
      <p:sp>
        <p:nvSpPr>
          <p:cNvPr id="16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commands provide a specialized command specific for controlling JBN EM agents on remote platform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eployer agent start” and “deployer agent stop”  do what you’d expect – they start and stop the JBN EM agent on the specified platform machine.  The “ping” command simply tells you if the agent is running or no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ployer agent install” command is interesting – it allows you to remotely install or upgrade the agent software.  It will transmit the agent bundle to the remote machine, unpack and install i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help deployer agent” for a list of properties you can set to allow for these commands to be more easily automated.  Things such as the remote username and password can be defined to allow the commands to execute without the CLI shell having to prompt the user for these valu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se commands are not supported on the Windows platform today.  The underlying mechanism these commands use to remotely communicate with the agent platform is “ssh” – secure shell – which today is not a standard, installed service found on today’s Windows platform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50920" y="684360"/>
            <a:ext cx="4557600" cy="3417840"/>
          </a:xfrm>
          <a:prstGeom prst="rect">
            <a:avLst/>
          </a:prstGeom>
          <a:ln w="0">
            <a:noFill/>
          </a:ln>
        </p:spPr>
      </p:sp>
      <p:sp>
        <p:nvSpPr>
          <p:cNvPr id="16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gone through the bulk of the command set that the CLI shell supports.  However, there are a few “hidden” commands that may (or may not) prove helpful.  They are always available but you can only see the list of these “hidden” commands by settings the property “developer.commands” to something (as long as its not null, the developer commands setting will be enabled – “set developer.commands true” will do the tr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ord of warning here – these are “hidden” commands for a reason – they are used mainly during development or are commands not yet ready to be released as part of the officially supported set of commands.  They may be partially complete.  In other words, some may be “broken”, so be prepared for errors.  These are to be considered “unsupported” commands – so use them at your own risk.  We only bring them to your attention because some may actually prove useful to you, even in their current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final note – a side effect of setting the “developer.commands” property is that it enables stack traces to be dumped to the screen when the CLI shell encounters unexpected exceptions.  This may prove useful when you are engaged with JBoss support and we need to see exactly where an error is occurring.  If you have a problem with the CLI shell that you need to report to JBoss support, it would be helpful if you enabled the “developer.commands” and sent along the stack traces along with the description of the problem you are having.</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52360" y="684360"/>
            <a:ext cx="4557960" cy="3417840"/>
          </a:xfrm>
          <a:prstGeom prst="rect">
            <a:avLst/>
          </a:prstGeom>
          <a:ln w="0">
            <a:noFill/>
          </a:ln>
        </p:spPr>
      </p:sp>
      <p:sp>
        <p:nvSpPr>
          <p:cNvPr id="16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a quick overview of JBN EM command line interface and walked through some of its features and capabilities.  We hope this presentation proved informative and we thank you for ti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50920" y="684360"/>
            <a:ext cx="4557600" cy="3417840"/>
          </a:xfrm>
          <a:prstGeom prst="rect">
            <a:avLst/>
          </a:prstGeom>
          <a:ln w="0">
            <a:noFill/>
          </a:ln>
        </p:spPr>
      </p:sp>
      <p:sp>
        <p:nvSpPr>
          <p:cNvPr id="13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presentation, we will first provide an overview of what the CLI shell is.  Second, we will talk about the typical way you specify the resources you want the commands to operate on.  And lastly, we’ll go through some of the commands that can be issued from the CLI to illustrate the functionality provided by the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50920" y="684360"/>
            <a:ext cx="4557600" cy="3417840"/>
          </a:xfrm>
          <a:prstGeom prst="rect">
            <a:avLst/>
          </a:prstGeom>
          <a:ln w="0">
            <a:noFill/>
          </a:ln>
        </p:spPr>
      </p:sp>
      <p:sp>
        <p:nvSpPr>
          <p:cNvPr id="13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ommand line interface is one of the two user interfaces provided by JBN EM.  The other is the JBN EM Console – a web-based GUI console accessed via a browser.  The JBN EM Console was covered in two other web-ex presentations that the JBoss Network team previously delivered; recordings of these previous web-ex sessions are available for viewing should you wish to learn more about the GUI interface.</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y things that you can do from the command line interface can also be done from the GUI.  What the CLI shell gives you in addition to the functionality that the JBN EM Console gives you is the ability to script commands to be executed in bulk – combined with a scheduler like “cron” and you can automate tasks using the CLI shell that you can’t do in the GUI.</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is used to issue commands to the server for execution.  Once the server executes the commands, it returns the results back to the shell where the results are dumped to the scree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start the CLI shell, you run the script appropriate for your platform (on Windows, the script name is jbn-shell.bat; on UNIX it is jbn-shell.sh).</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pon startup, the shell will search the .jbn subdirectory found in your home directory and will look for a file called “shellrc”.  If that file exists, all commands found in that file will be immediately executed.  This is most useful by placing a login command in the startup script so the shell automatically logs itself into the server.</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LI shell enables you to interactively enter commands at the prompt.  In addition, you can execute a bulk set of commands via the “source” command or by piping commands into the stdin of the shell.</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is help available from the command prompt.  The “help” command will display all the available commands.  For each command, you can enter “help” followed by the name of the command to get more specific help details.</a:t>
            </a: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50920" y="684360"/>
            <a:ext cx="4557600" cy="3417840"/>
          </a:xfrm>
          <a:prstGeom prst="rect">
            <a:avLst/>
          </a:prstGeom>
          <a:ln w="0">
            <a:noFill/>
          </a:ln>
        </p:spPr>
      </p:sp>
      <p:sp>
        <p:nvSpPr>
          <p:cNvPr id="13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get into the specifics of the different commands, let’s first discuss how you specify resources to the commands you issue.  Most of the commands supported by the CLI shell accept a resource argument.  This is how to tell the command which resources you want the command to operate on.  You specify the type of resource along with the resource ID.  The type of resource can be one of platform, server, service, group or app.   Note that some commands only accept a subset of these resource types (that is, some may only accept either –platform or –server but not –group, as a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pecify the resource ID by using either its numeric ID or the name of the resource.  If you specify the resource by name, you should enclose the name in quotes (this is to ensure names with spaces in them are parsed correctly by the command line pars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determine what your resource names and ID numbers are by using the “resource list” command (which we will see shor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50920" y="684360"/>
            <a:ext cx="4557600" cy="3417840"/>
          </a:xfrm>
          <a:prstGeom prst="rect">
            <a:avLst/>
          </a:prstGeom>
          <a:ln w="0">
            <a:noFill/>
          </a:ln>
        </p:spPr>
      </p:sp>
      <p:sp>
        <p:nvSpPr>
          <p:cNvPr id="138"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on to the commands themselves.  The first group of commands we will cover are the basic commands - these are mainly used to issue commands to the CLI shell itself.</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ogin” command will usually be the first command you issue.  It connects the CLI shell to the server, allowing other commands you give to the CLI shell to be sent to the server for execution.  The login name and password are the same as those defined by the JBN EM Console – that is, the same username/password you use to connect to the web-based console is also used to log into the CLI shell.  A login command is typically the first command you’ll find in your shellrc startup scrip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version” and “license” commands provide information on the installed JBN EM server.  The license command will tell you if and when your license expires along with other information pertaining to the license (should there be some restrictions placed on the server installation, as is typically the case with evaluation copi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help” command was discussed earlier and provides syntax help and command descriptions of all the commands accepted by the CLI shell.</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urce” command takes as its argument a file that contains a list of commands that should be executed in bulk.</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time” command provides a “stopwatch” that calculates the amount of time a command takes to be executed and its results return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leep” command pauses the shell for a given amount of time – this is useful when executing a series of commands sourced from a script and you need to pause the shell in between command execution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d obviously, the “quit” command exits the shell.</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50920" y="684360"/>
            <a:ext cx="4557600" cy="3417840"/>
          </a:xfrm>
          <a:prstGeom prst="rect">
            <a:avLst/>
          </a:prstGeom>
          <a:ln w="0">
            <a:noFill/>
          </a:ln>
        </p:spPr>
      </p:sp>
      <p:sp>
        <p:nvSpPr>
          <p:cNvPr id="140"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group of commands we will review are the resource commands - these provide a view into your inventory, or what can be called your topology resources.  Topology resources (such as platforms, servers and services) are those that the JBN EM server is manag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ort” / “import” commands write/read XML files that describe the metadata for your entire inven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command will show you a list of all of your resources grouped by resource type.  You can list only those resources of a given type by specifying the resource type argument (which is either –platform, –server, –service, –group or –app).</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ew” command provides additional details about a specific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figure” and “set” commands allow you to configure a resource or set a specific configuration setting.  You typically configure a resource after it has been imported from being auto-discover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50920" y="684360"/>
            <a:ext cx="4557600" cy="3417840"/>
          </a:xfrm>
          <a:prstGeom prst="rect">
            <a:avLst/>
          </a:prstGeom>
          <a:ln w="0">
            <a:noFill/>
          </a:ln>
        </p:spPr>
      </p:sp>
      <p:sp>
        <p:nvSpPr>
          <p:cNvPr id="142"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of the “resource view” command.  Here I asked to view the details of a server named “host JBN Server”.  In other words, I want to see the inventory metadata of the JBN EM server itself!  The results show you where it is installed, when it was imported into the inventory (that’s the “Created” date you see here) along with some configuration properties that are relevant to this server (as you might have guessed by looking at the configuration properties, the JBN EM Server is running in a JBossAS server instance and thus has JBossAS configuration setting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50920" y="684360"/>
            <a:ext cx="4557600" cy="3417840"/>
          </a:xfrm>
          <a:prstGeom prst="rect">
            <a:avLst/>
          </a:prstGeom>
          <a:ln w="0">
            <a:noFill/>
          </a:ln>
        </p:spPr>
      </p:sp>
      <p:sp>
        <p:nvSpPr>
          <p:cNvPr id="144"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family of commands deal with two distinct parts of the auto-inventory component of JBN EM.  The first being the actual scanning or auto-discovering of new platforms, servers and services that are found on the network.  The second involves the importation and configuration of those newly discovered resourc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start” / “stop” commands immediately start and stop a new scan on a given platform.  Using the start command allows you to ask the agent to probe the platform for new or changed resources.  When the agent is asked to probe the platform, it will do things like scan the operating system’s process table searching for running programs, scan the file system looking for particular files and scan the Windows registry for particular registry entri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nventory schedule” command is similar to the start command in that it will ask the agent to probe a platform for new resources – however, it delays that action to some point in the future.  You can schedule a one-time scan to run or the schedule may be recurring (for example, you can ask the agent to run the scan dail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utoinventory list” command gives you the history of those scheduled scans that have completed as well as tell you what future scans are schedul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canning for new resources is only one part of the auto-inventory features of JBN EM.   Once a resource has been discovered, it is up to you to decide if that new resource should become part of your topology – that is, should it be a managed resource?  If you want the newly discovered resource to be managed by JBN EM, you must approve and import that new resource.  If you do not want the new resource to be imported into your topology, you can ignore that resource.  The “autoinventory queue” command allows you to tell JBN EM which discovered resources you approve to be imported and which you want to be ignored (and thus not become part of your managed topology).  The “autoinventory queue view” command shows you which resources have been discovered and need to be processed (that is, either imported or ignored).</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50920" y="684360"/>
            <a:ext cx="4557600" cy="3417840"/>
          </a:xfrm>
          <a:prstGeom prst="rect">
            <a:avLst/>
          </a:prstGeom>
          <a:ln w="0">
            <a:noFill/>
          </a:ln>
        </p:spPr>
      </p:sp>
      <p:sp>
        <p:nvSpPr>
          <p:cNvPr id="146"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I shell output shows you the command to approve new resources to be imported into the inventory.  First, you’ll notice there was only one platform and three servers in the inventory.  Not shown here is that, previously, a new agent was started on a new platform and that agent ran a scan and auto-discovered four servers on that new platform.  What is shown is the “autoinventory queue process” command being issued that approves the new platform allowing it and all its servers to be imported.  Once imported, the new resources will show up in the resource list - in the output at the bottom you now see two platforms and seven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functionality to selectively import and ignore auto-discovered resources can also be performed from the JBN EM Console GUI.  However, with these CLI commands, its possible for you to automate these tasks should your infrastructure require constant updating as new resources get added to your network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1E1D1E0-0BD2-4398-83EF-744D25FAC0B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 Shell</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br>
              <a:rPr sz="2800"/>
            </a:br>
            <a:r>
              <a:rPr b="0" lang="en-US" sz="2800" spc="-1" strike="noStrike">
                <a:solidFill>
                  <a:srgbClr val="000000"/>
                </a:solidFill>
                <a:latin typeface="Verdana"/>
              </a:rPr>
              <a:t>Command Line Interfac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480"/>
            <a:ext cx="8001000" cy="5062680"/>
          </a:xfrm>
          <a:prstGeom prst="rect">
            <a:avLst/>
          </a:prstGeom>
          <a:noFill/>
          <a:ln w="0">
            <a:noFill/>
          </a:ln>
        </p:spPr>
        <p:txBody>
          <a:bodyPr lIns="90000" rIns="90000" tIns="46800" bIns="46800" anchor="t">
            <a:normAutofit/>
          </a:bodyPr>
          <a:p>
            <a:pPr marL="469800" indent="-469800">
              <a:lnSpc>
                <a:spcPct val="8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tric</a:t>
            </a:r>
            <a:endParaRPr b="0" lang="en-US" sz="22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what metrics are configured for collection and values that have been collected over a date range</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list”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hows metric details and live values</a:t>
            </a:r>
            <a:endParaRPr b="0" lang="en-US" sz="19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Do “help metric view” for more interesting details</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figure</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s a metric</a:t>
            </a:r>
            <a:endParaRPr b="0" lang="en-US" sz="19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a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pact</a:t>
            </a:r>
            <a:endParaRPr b="0" lang="en-US" sz="2000" spc="-1" strike="noStrike">
              <a:solidFill>
                <a:srgbClr val="000000"/>
              </a:solidFill>
              <a:latin typeface="Verdana"/>
            </a:endParaRPr>
          </a:p>
          <a:p>
            <a:pPr lvl="2" marL="1305000" indent="-395280">
              <a:lnSpc>
                <a:spcPct val="8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mpacts aging metric data and purges old data</a:t>
            </a:r>
            <a:endParaRPr b="0" lang="en-US" sz="19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g. list/view metrics for JBoss</a:t>
            </a:r>
            <a:endParaRPr b="0" lang="en-US" sz="3000" spc="-1" strike="noStrike">
              <a:solidFill>
                <a:srgbClr val="000000"/>
              </a:solidFill>
              <a:latin typeface="Verdana"/>
            </a:endParaRPr>
          </a:p>
        </p:txBody>
      </p:sp>
      <p:sp>
        <p:nvSpPr>
          <p:cNvPr id="111" name="PlaceHolder 2"/>
          <p:cNvSpPr>
            <a:spLocks noGrp="1"/>
          </p:cNvSpPr>
          <p:nvPr>
            <p:ph/>
          </p:nvPr>
        </p:nvSpPr>
        <p:spPr>
          <a:xfrm>
            <a:off x="685440" y="1447560"/>
            <a:ext cx="8001000" cy="27003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jbnem-shell::jbnadmin&gt; metric list -server “host JBN Server“</a:t>
            </a:r>
            <a:br>
              <a:rPr sz="1100"/>
            </a:b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Metric listing: 10 metrics foun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ID      Interval   Enabled   Description                          Alias</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      --------   -------   -----------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70   300        true      Active Thread Count                  ActiveThread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6   300        true      Active Thread Group Count            ActiveThreadGroup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4   10         true      Availability                         Availabilit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8   300        true      JMS Message Cache Size               TotalCacheSiz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2   10         true      JVM Free Memory                      Free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4   1800       true      JVM Max Memory                       Max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0   300        true      JVM Total Memory                     TotalMemory</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68   300        true      Transactions Active                  TxCount</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6   600        true      Transactions Committed per Minute    TxCommits1m</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ourier New"/>
              </a:rPr>
              <a:t>10052   600        true      Transactions Rolledback per Minute   TxRollbacks1m</a:t>
            </a:r>
            <a:endParaRPr b="0" lang="en-US" sz="1100" spc="-1" strike="noStrike">
              <a:solidFill>
                <a:srgbClr val="000000"/>
              </a:solidFill>
              <a:latin typeface="Verdana"/>
            </a:endParaRPr>
          </a:p>
        </p:txBody>
      </p:sp>
      <p:sp>
        <p:nvSpPr>
          <p:cNvPr id="112" name=""/>
          <p:cNvSpPr/>
          <p:nvPr/>
        </p:nvSpPr>
        <p:spPr>
          <a:xfrm>
            <a:off x="1368720" y="4648320"/>
            <a:ext cx="6290640" cy="12801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metric view -value 1006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trieved JVM Free Memory from </a:t>
            </a:r>
            <a:r>
              <a:rPr b="1" lang="en-US" sz="1400" spc="-1" strike="noStrike">
                <a:solidFill>
                  <a:srgbClr val="000000"/>
                </a:solidFill>
                <a:latin typeface="Arial"/>
              </a:rPr>
              <a:t>'</a:t>
            </a:r>
            <a:r>
              <a:rPr b="0" i="1" lang="en-US" sz="1400" spc="-1" strike="noStrike">
                <a:solidFill>
                  <a:srgbClr val="000000"/>
                </a:solidFill>
                <a:latin typeface="Arial"/>
              </a:rPr>
              <a:t> </a:t>
            </a:r>
            <a:r>
              <a:rPr b="1" lang="en-US" sz="1400" spc="-1" strike="noStrike">
                <a:solidFill>
                  <a:srgbClr val="000000"/>
                </a:solidFill>
                <a:latin typeface="Courier New"/>
              </a:rPr>
              <a:t>host JBN Server</a:t>
            </a:r>
            <a:r>
              <a:rPr b="1" lang="en-US" sz="1400" spc="-1" strike="noStrike">
                <a:solidFill>
                  <a:srgbClr val="000000"/>
                </a:solidFill>
                <a:latin typeface="Arial"/>
              </a:rPr>
              <a:t>'</a:t>
            </a:r>
            <a:r>
              <a:rPr b="1" lang="en-US" sz="1400" spc="-1" strike="noStrike">
                <a:solidFill>
                  <a:srgbClr val="000000"/>
                </a:solidFill>
                <a:latin typeface="Courier New"/>
              </a:rPr>
              <a:t> (2:10006)</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Value:                 47.2 MB</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ollection Time:       7/10/05 11:43:18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sts alerts that were raised</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formation provided is not as user-friendly as the information provided when the GUI lists alerts</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eletes alerts from a particular resource or during a particular date range (see </a:t>
            </a:r>
            <a:r>
              <a:rPr b="0" lang="en-US" sz="1600" spc="-1" strike="noStrike">
                <a:solidFill>
                  <a:srgbClr val="000000"/>
                </a:solidFill>
                <a:latin typeface="Courier New"/>
              </a:rPr>
              <a:t>help alert delete</a:t>
            </a:r>
            <a:r>
              <a:rPr b="0" lang="en-US" sz="1600" spc="-1" strike="noStrike">
                <a:solidFill>
                  <a:srgbClr val="000000"/>
                </a:solidFill>
                <a:latin typeface="Verdana"/>
              </a:rPr>
              <a:t> for interesting ways you can specify the date range)</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is really the most useful of the alert/alertdef family of commands</a:t>
            </a: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def</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rea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e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alertdef command is less commonly used – the GUI is typically used to perform the task of creating alert definition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Purge alerts</a:t>
            </a:r>
            <a:endParaRPr b="0" lang="en-US" sz="3400" spc="-1" strike="noStrike">
              <a:solidFill>
                <a:srgbClr val="000000"/>
              </a:solidFill>
              <a:latin typeface="Verdana"/>
            </a:endParaRPr>
          </a:p>
        </p:txBody>
      </p:sp>
      <p:sp>
        <p:nvSpPr>
          <p:cNvPr id="11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2 weeks "</a:t>
            </a:r>
            <a:br>
              <a:rPr sz="2200"/>
            </a:br>
            <a:r>
              <a:rPr b="0" lang="en-US" sz="2200" spc="-1" strike="noStrike">
                <a:solidFill>
                  <a:srgbClr val="000000"/>
                </a:solidFill>
                <a:latin typeface="Courier New"/>
              </a:rPr>
              <a:t>             -to "7/10/2005 8:00am“</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2 weeks ago to the hard date of July 10, 2005 at 8:00am</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now - 3 days"</a:t>
            </a:r>
            <a:br>
              <a:rPr sz="2200"/>
            </a:br>
            <a:r>
              <a:rPr b="0" lang="en-US" sz="2200" spc="-1" strike="noStrike">
                <a:solidFill>
                  <a:srgbClr val="000000"/>
                </a:solidFill>
                <a:latin typeface="Courier New"/>
              </a:rPr>
              <a:t>             -to "now – 2 days"</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between the range of this time 3 days ago to this time 2 days ago</a:t>
            </a:r>
            <a:endParaRPr b="0" lang="en-US" sz="2000" spc="-1" strike="noStrike">
              <a:solidFill>
                <a:srgbClr val="000000"/>
              </a:solidFill>
              <a:latin typeface="Verdana"/>
            </a:endParaRPr>
          </a:p>
          <a:p>
            <a:pPr marL="469800" indent="-469800">
              <a:lnSpc>
                <a:spcPct val="100000"/>
              </a:lnSpc>
              <a:spcBef>
                <a:spcPts val="550"/>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lert delete -from "yesterday"</a:t>
            </a:r>
            <a:endParaRPr b="0" lang="en-US" sz="2200" spc="-1" strike="noStrike">
              <a:solidFill>
                <a:srgbClr val="000000"/>
              </a:solidFill>
              <a:latin typeface="Verdana"/>
            </a:endParaRPr>
          </a:p>
          <a:p>
            <a:pPr lvl="1" marL="907920" indent="-436320">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letes alerts that were triggered anytime yesterday or later.</a:t>
            </a:r>
            <a:endParaRPr b="0" lang="en-US" sz="2000" spc="-1" strike="noStrike">
              <a:solidFill>
                <a:srgbClr val="000000"/>
              </a:solidFill>
              <a:latin typeface="Verdana"/>
            </a:endParaRPr>
          </a:p>
          <a:p>
            <a:pPr marL="469800" indent="-469800">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e “help alert delete” for more info on date range specifications</a:t>
            </a:r>
            <a:endParaRPr b="0" lang="en-US" sz="2200" spc="-1" strike="noStrike">
              <a:solidFill>
                <a:srgbClr val="000000"/>
              </a:solidFill>
              <a:latin typeface="Verdana"/>
            </a:endParaRPr>
          </a:p>
          <a:p>
            <a:pPr marL="4698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1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Lists control actions allowed for a particular resource</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history of past executions of control actions</a:t>
            </a:r>
            <a:endParaRPr b="0" lang="en-US" sz="21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hows the current schedule of control actions to be executed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chedul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chedules a control action to be performed some time in the future</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erform</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xecute a control action immediately</a:t>
            </a:r>
            <a:endParaRPr b="0" lang="en-US" sz="21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a:t>
            </a:r>
            <a:endParaRPr b="0" lang="en-US" sz="2200" spc="-1" strike="noStrike">
              <a:solidFill>
                <a:srgbClr val="000000"/>
              </a:solidFill>
              <a:latin typeface="Verdana"/>
            </a:endParaRPr>
          </a:p>
          <a:p>
            <a:pPr lvl="2" marL="1305000" indent="-395280">
              <a:lnSpc>
                <a:spcPct val="8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figures the control parameters for a particular resource</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Listing Controls</a:t>
            </a:r>
            <a:endParaRPr b="0" lang="en-US" sz="3400" spc="-1" strike="noStrike">
              <a:solidFill>
                <a:srgbClr val="000000"/>
              </a:solidFill>
              <a:latin typeface="Verdana"/>
            </a:endParaRPr>
          </a:p>
        </p:txBody>
      </p:sp>
      <p:sp>
        <p:nvSpPr>
          <p:cNvPr id="120" name="PlaceHolder 2"/>
          <p:cNvSpPr>
            <a:spLocks noGrp="1"/>
          </p:cNvSpPr>
          <p:nvPr>
            <p:ph/>
          </p:nvPr>
        </p:nvSpPr>
        <p:spPr>
          <a:xfrm>
            <a:off x="647640" y="1523520"/>
            <a:ext cx="7848720" cy="132876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ctions available for 2:10005:</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op</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start</a:t>
            </a:r>
            <a:endParaRPr b="0" lang="en-US" sz="1400" spc="-1" strike="noStrike">
              <a:solidFill>
                <a:srgbClr val="000000"/>
              </a:solidFill>
              <a:latin typeface="Verdana"/>
            </a:endParaRPr>
          </a:p>
          <a:p>
            <a:pPr marL="469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restart</a:t>
            </a:r>
            <a:endParaRPr b="0" lang="en-US" sz="1400" spc="-1" strike="noStrike">
              <a:solidFill>
                <a:srgbClr val="000000"/>
              </a:solidFill>
              <a:latin typeface="Verdana"/>
            </a:endParaRPr>
          </a:p>
        </p:txBody>
      </p:sp>
      <p:sp>
        <p:nvSpPr>
          <p:cNvPr id="121" name=""/>
          <p:cNvSpPr/>
          <p:nvPr/>
        </p:nvSpPr>
        <p:spPr>
          <a:xfrm>
            <a:off x="271800" y="3505320"/>
            <a:ext cx="8608320" cy="22532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control list -server "mazz-linux JBoss 4.0 all” -history</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Control history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User       Date Started         Action     Duration        Statu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15/05 10:56:34 PM  restart    00:00:00        In Progre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5:58:11 PM    stop       00:00:09        Complet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admin   8/2/05 2:35:10 PM    stop       00:00:13        Comple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Deployer</a:t>
            </a:r>
            <a:endParaRPr b="0" lang="en-US" sz="3400" spc="-1" strike="noStrike">
              <a:solidFill>
                <a:srgbClr val="000000"/>
              </a:solidFill>
              <a:latin typeface="Verdana"/>
            </a:endParaRPr>
          </a:p>
        </p:txBody>
      </p:sp>
      <p:sp>
        <p:nvSpPr>
          <p:cNvPr id="1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eployer agen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erdana"/>
              </a:rPr>
              <a:t>help deployer agent” will show you properties you can set for better autom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ure – uses ssh</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supported on Windows platform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eveloper Commands</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285264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st set developer.commands property</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t developer.commands true</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nsupported commands – some are ready for prime time, some are no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g. “agent lis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to see all the agents on your network</a:t>
            </a:r>
            <a:endParaRPr b="0" lang="en-US" sz="2200" spc="-1" strike="noStrike">
              <a:solidFill>
                <a:srgbClr val="000000"/>
              </a:solidFill>
              <a:latin typeface="Verdana"/>
            </a:endParaRPr>
          </a:p>
        </p:txBody>
      </p:sp>
      <p:sp>
        <p:nvSpPr>
          <p:cNvPr id="126" name=""/>
          <p:cNvSpPr/>
          <p:nvPr/>
        </p:nvSpPr>
        <p:spPr>
          <a:xfrm>
            <a:off x="1219320" y="4419720"/>
            <a:ext cx="7238880" cy="1604520"/>
          </a:xfrm>
          <a:prstGeom prst="rect">
            <a:avLst/>
          </a:prstGeom>
          <a:solidFill>
            <a:srgbClr val="c0c0c0"/>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jbnem-shell::jbnadmin&gt; agent lis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gents listing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Id      Address            Created              Last Modified</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            -------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10001   127.0.0.1:2144     7/9/05 7:06:10 PM    7/9/05 8:20:47 P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8"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verview of the CLI shel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ow to specify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o over each group of command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vento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t. al.</a:t>
            </a:r>
            <a:endParaRPr b="0" lang="en-US" sz="26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LI is one of the two user interfaces</a:t>
            </a:r>
            <a:endParaRPr b="0" lang="en-US" sz="25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web-based JBN EM Console is the other</a:t>
            </a:r>
            <a:endParaRPr b="0" lang="en-US" sz="2100" spc="-1" strike="noStrike">
              <a:solidFill>
                <a:srgbClr val="000000"/>
              </a:solidFill>
              <a:latin typeface="Verdana"/>
            </a:endParaRPr>
          </a:p>
          <a:p>
            <a:pPr lvl="1" marL="898560" indent="-431640">
              <a:spcBef>
                <a:spcPts val="5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y things can be performed in both interfaces</a:t>
            </a:r>
            <a:endParaRPr b="0" lang="en-US" sz="21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jbn-shell.[bat,sh]</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Upon startup, runs commands found in the script </a:t>
            </a:r>
            <a:r>
              <a:rPr b="0" lang="en-US" sz="2500" spc="-1" strike="noStrike">
                <a:solidFill>
                  <a:srgbClr val="000000"/>
                </a:solidFill>
                <a:latin typeface="Courier New"/>
              </a:rPr>
              <a:t>~/.jbn/shellrc</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interactively enter commands</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You can execute a bulk set of commands by adding them to a script and running the script via the “</a:t>
            </a:r>
            <a:r>
              <a:rPr b="0" lang="en-US" sz="2500" spc="-1" strike="noStrike">
                <a:solidFill>
                  <a:srgbClr val="000000"/>
                </a:solidFill>
                <a:latin typeface="Courier New"/>
              </a:rPr>
              <a:t>source</a:t>
            </a:r>
            <a:r>
              <a:rPr b="0" lang="en-US" sz="2500" spc="-1" strike="noStrike">
                <a:solidFill>
                  <a:srgbClr val="000000"/>
                </a:solidFill>
                <a:latin typeface="Verdana"/>
              </a:rPr>
              <a:t>” command</a:t>
            </a:r>
            <a:endParaRPr b="0" lang="en-US" sz="2500" spc="-1" strike="noStrike">
              <a:solidFill>
                <a:srgbClr val="000000"/>
              </a:solidFill>
              <a:latin typeface="Verdana"/>
            </a:endParaRPr>
          </a:p>
          <a:p>
            <a:pPr marL="464760" indent="-464760">
              <a:spcBef>
                <a:spcPts val="6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lp command provides help on commands</a:t>
            </a:r>
            <a:endParaRPr b="0" lang="en-US" sz="2500" spc="-1" strike="noStrike">
              <a:solidFill>
                <a:srgbClr val="000000"/>
              </a:solidFill>
              <a:latin typeface="Verdana"/>
            </a:endParaRPr>
          </a:p>
          <a:p>
            <a:pPr lvl="1" marL="898560" indent="-431640">
              <a:lnSpc>
                <a:spcPct val="100000"/>
              </a:lnSpc>
              <a:spcBef>
                <a:spcPts val="62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ourier New"/>
              </a:rPr>
              <a:t>help &lt;command&gt;</a:t>
            </a:r>
            <a:endParaRPr b="0" lang="en-US" sz="2500" spc="-1" strike="noStrike">
              <a:solidFill>
                <a:srgbClr val="000000"/>
              </a:solidFill>
              <a:latin typeface="Verdana"/>
            </a:endParaRPr>
          </a:p>
        </p:txBody>
      </p:sp>
      <p:sp>
        <p:nvSpPr>
          <p:cNvPr id="95"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verview</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pecify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7936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y commands accept a resource as a command argument</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you can specify a resource by name (“host.domain.com”, “My JBoss Server”) or by ID (10001)</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10001</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group “My Group”</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ic Command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ogin</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login username:password@hos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is can be the first line in ~/.jbn/shellrc to automatically log you in whenever you start the shel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ersion</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cense</a:t>
            </a: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el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help [command] [subcomman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help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ourc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ulk execute a set of comma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ime</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imes the execution of another command and reports the elapsed time once complet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time &lt;command to execute&gt;</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g. </a:t>
            </a:r>
            <a:r>
              <a:rPr b="0" lang="en-US" sz="1700" spc="-1" strike="noStrike">
                <a:solidFill>
                  <a:srgbClr val="000000"/>
                </a:solidFill>
                <a:latin typeface="Courier New"/>
              </a:rPr>
              <a:t>time resource list</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leep</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use for N second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qui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Export/Import resource inventor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full inventory can be exported to an .xml file or imported from an .xml</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export C:\inventory.xml</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Lis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list all resources or just the resources of a particular typ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list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get a more detailed view of a resource (such as what resources are contained in a group, as an exampl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resource view –server "My JBoss Server"</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e and Set</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You can configure configuration settings for a particular resource</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onfigure command configures all settings</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t command configures one setting</a:t>
            </a:r>
            <a:endParaRPr b="0" lang="en-US" sz="16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ather than use this command, you typically configure a resource or set a particular resource’s configuration property from the GU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Viewing a Resource</a:t>
            </a:r>
            <a:endParaRPr b="0" lang="en-US" sz="3400" spc="-1" strike="noStrike">
              <a:solidFill>
                <a:srgbClr val="000000"/>
              </a:solidFill>
              <a:latin typeface="Verdana"/>
            </a:endParaRPr>
          </a:p>
        </p:txBody>
      </p:sp>
      <p:sp>
        <p:nvSpPr>
          <p:cNvPr id="103" name="PlaceHolder 2"/>
          <p:cNvSpPr>
            <a:spLocks noGrp="1"/>
          </p:cNvSpPr>
          <p:nvPr>
            <p:ph/>
          </p:nvPr>
        </p:nvSpPr>
        <p:spPr>
          <a:xfrm>
            <a:off x="595080" y="1371240"/>
            <a:ext cx="8001000" cy="4800600"/>
          </a:xfrm>
          <a:prstGeom prst="rect">
            <a:avLst/>
          </a:prstGeom>
          <a:solidFill>
            <a:srgbClr val="c0c0c0"/>
          </a:solidFill>
          <a:ln w="9360">
            <a:solidFill>
              <a:srgbClr val="000000"/>
            </a:solidFill>
            <a:miter/>
          </a:ln>
        </p:spPr>
        <p:txBody>
          <a:bodyPr lIns="90000" rIns="90000" tIns="46800" bIns="46800"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jbnem-shell::jbnadmin&gt; resource view -server “host JBN Server“</a:t>
            </a:r>
            <a:br>
              <a:rPr sz="1600"/>
            </a:b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host JBN Server (id=10006)</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erver Type:    JBoss 3.2</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escrip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tate:          unknow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Install Path:   C:\jbem\server-jboss-1.0.8\hq-</a:t>
            </a:r>
            <a:br>
              <a:rPr sz="1600"/>
            </a:br>
            <a:r>
              <a:rPr b="1" lang="en-US" sz="1600" spc="-1" strike="noStrike">
                <a:solidFill>
                  <a:srgbClr val="000000"/>
                </a:solidFill>
                <a:latin typeface="Courier New"/>
              </a:rPr>
              <a:t>            engine\server\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Owner:          jbn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ocatio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Last Modified:  7/10/05 9:56:25 PM (by admin)</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reated:        7/9/05 11:00:40 PM</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resource]</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java.naming.provider.url = 'jnp://127.0.0.1:2099'</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figuration : control]</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onfigSet            = 'default'</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program              = 'C:\jbem\server-jboss-1.0.8\hq-</a:t>
            </a:r>
            <a:br>
              <a:rPr sz="1600"/>
            </a:br>
            <a:r>
              <a:rPr b="1" lang="en-US" sz="1600" spc="-1" strike="noStrike">
                <a:solidFill>
                  <a:srgbClr val="000000"/>
                </a:solidFill>
                <a:latin typeface="Courier New"/>
              </a:rPr>
              <a:t>                      engine\bin\run.ba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utoinventory</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command provides ability to perform auto-discovery scans and to import resources into your inventory that were auto-discover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 stop</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rols the scanning of new resource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edul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a scan to run in the futur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History – shows previous scans</a:t>
            </a:r>
            <a:endParaRPr b="0" lang="en-US" sz="19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chedule – shows current schedule of sc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eue</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View</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hows resources that were found during AI</a:t>
            </a:r>
            <a:endParaRPr b="0" lang="en-US" sz="16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rocess</a:t>
            </a:r>
            <a:endParaRPr b="0" lang="en-US" sz="1900" spc="-1" strike="noStrike">
              <a:solidFill>
                <a:srgbClr val="000000"/>
              </a:solidFill>
              <a:latin typeface="Verdana"/>
            </a:endParaRPr>
          </a:p>
          <a:p>
            <a:pPr lvl="3" marL="1693800" indent="-387360">
              <a:lnSpc>
                <a:spcPct val="90000"/>
              </a:lnSpc>
              <a:spcBef>
                <a:spcPts val="400"/>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rove or ignore resources found during AI</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g. Approve New Resources</a:t>
            </a:r>
            <a:endParaRPr b="0" lang="en-US" sz="3400" spc="-1" strike="noStrike">
              <a:solidFill>
                <a:srgbClr val="000000"/>
              </a:solidFill>
              <a:latin typeface="Verdana"/>
            </a:endParaRPr>
          </a:p>
        </p:txBody>
      </p:sp>
      <p:sp>
        <p:nvSpPr>
          <p:cNvPr id="107" name="PlaceHolder 2"/>
          <p:cNvSpPr>
            <a:spLocks noGrp="1"/>
          </p:cNvSpPr>
          <p:nvPr>
            <p:ph/>
          </p:nvPr>
        </p:nvSpPr>
        <p:spPr>
          <a:xfrm>
            <a:off x="1295280" y="990360"/>
            <a:ext cx="6553440" cy="5257800"/>
          </a:xfrm>
          <a:prstGeom prst="rect">
            <a:avLst/>
          </a:prstGeom>
          <a:solidFill>
            <a:srgbClr val="c0c0c0"/>
          </a:solidFill>
          <a:ln w="9360">
            <a:solidFill>
              <a:srgbClr val="000000"/>
            </a:solidFill>
            <a:miter/>
          </a:ln>
        </p:spPr>
        <p:txBody>
          <a:bodyPr lIns="90000" rIns="90000" tIns="46800" bIns="46800" anchor="t">
            <a:normAutofit/>
          </a:bodyPr>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autoinventory queue process approve -aiplatform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platform</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Platform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Platform Type        Domain Nam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1   192.168.0.4     Linux                192.168.0.4</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Win32                192.168.0.3</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jbnem-shell::jbnadmin&gt; resource list -server</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Server listing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ID      Name                      Server Type                    State</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                      -----------                    -----</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2   mazz-linux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5   mazz-linux JBoss 4.0 all  JBoss 4.0                      stopped</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04   mazz-linux Tomcat 5.5     Tomcat 5.5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1   mazzlap Apache 2.0.52     Apache 2.0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8   mazzlap JBN Agent         JBN Agent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7   mazzlap JBN Server        JBoss 3.2                      unknown</a:t>
            </a: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10056   mazzlap JBN Tomcat        Tomcat 4.1                     unknown</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John Mazzitelli</dc:creator>
  <dc:description/>
  <dc:language>en-US</dc:language>
  <cp:lastModifiedBy>John Mazzitelli</cp:lastModifiedBy>
  <dcterms:modified xsi:type="dcterms:W3CDTF">2005-08-16T13:17:36Z</dcterms:modified>
  <cp:revision>106</cp:revision>
  <dc:subject/>
  <dc:title>JBN EM CLI</dc:title>
</cp:coreProperties>
</file>