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AF829-436A-478C-A677-E73080A2DD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quick introduction to the new JBoss Network Enterprise Manager and will walk through some of its features and capabilities.  Hopefully, at the end of this presentation, you will get a sense for what JBN EM is and how it can help you manage your enterpris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UNIX, you run the server, agent and command line shell using the provided scripts.  If you wish to start the server and/or agents at boot time, your IT administration will need to prepare an init.d/rc.d boot scrip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Windows, it’s a bit simpler.  The installer prepares Windows Services for you – the server and agent will be started automatically when you boot up.  Use the Windows Services GUI interface to manually start and stop the server and agent.  Note that if you installed the embedded database, it too will have a Windows Service – the DB service will be designated as a dependency of the server service so starting (or stopping) the server will do the same to the database.   To start the command line shell on Windows, run the provided .bat scrip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delving into the product’s GUI interface and the features of JBN EM, we first must delve into a subject that is core to JBN EM – that being resource topology and how JBN EM describes your environment’s topology in its inventory data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topology consists of one or more machines running one or more software products.  The metadata describing those resources is stored in your JBN EM inventory database.  The inventory includes only those resources that you want JBN EM to manage.  It is not your entire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gets populated through several discovery mechanisms – we’ll get to that in a minute.  But suffice it to say, the administrator has the last say as to what makes it into the inventory database – in other words, the administrator will have the choice to accept or ignore newly discovered resources, depending on whether that resource needs to be managed or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running the installer, you should immediately be able to import all initially discovered resourc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physical resources (platform, server or service) are the building blocks of the inventory data model.</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tible Group</a:t>
            </a:r>
            <a:r>
              <a:rPr b="0" lang="en-US" sz="1200" spc="-1" strike="noStrike">
                <a:solidFill>
                  <a:srgbClr val="000000"/>
                </a:solidFill>
                <a:latin typeface="Arial"/>
              </a:rPr>
              <a:t> – group of like resources (e.g. all servers of type “JBoss 4.0”) – good for controlling all resources as if one (i.e. performing a “stop” control action on a group effectively stops all resources belonging to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d Group</a:t>
            </a:r>
            <a:r>
              <a:rPr b="0" lang="en-US" sz="1200" spc="-1" strike="noStrike">
                <a:solidFill>
                  <a:srgbClr val="000000"/>
                </a:solidFill>
                <a:latin typeface="Arial"/>
              </a:rPr>
              <a:t> – group of different types of resources (any combination of platforms, servers, services) – good for attaching users/roles to limit which users can view/manipulate a se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to Group</a:t>
            </a:r>
            <a:r>
              <a:rPr b="0" lang="en-US" sz="1200" spc="-1" strike="noStrike">
                <a:solidFill>
                  <a:srgbClr val="000000"/>
                </a:solidFill>
                <a:latin typeface="Arial"/>
              </a:rPr>
              <a:t> – JBN EM server creates these for naturally-occurring/obvious groups – used internally by JBN EM to display common resources together in the GU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r>
              <a:rPr b="0" lang="en-US" sz="1200" spc="-1" strike="noStrike">
                <a:solidFill>
                  <a:srgbClr val="000000"/>
                </a:solidFill>
                <a:latin typeface="Arial"/>
              </a:rPr>
              <a:t> – a cross between a Compatible and Mixed group – contains only services but they can be of different types (e.g. a group consisting of Stateless Session EJB services and JMS destination servic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question remains - how does your inventory get populated?  You have this topology of resources running in the enterprise network; they need to be cataloged in your inventory database so JBN EM can begin monitoring the environm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agents can discover these resources using several methods: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y scanning the operating system’s process table (which detects running resources only)</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Windows registry (obviously for Windows platforms only), an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ile system for file pattern signatures that uniquely identify installed product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wo types of scans are performed each time the agent starts up as well as periodically during the agent’s lifetime.  You can also schedule auto-scans to occur at a time (or times) of your choosing – including the file system sca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resources are discovered, it’s the job of the administrator to accept them (i.e. add them to the inventory database) or ignore them – this allows the administrator to become a gatekeeper in determining what makes it into your inventory.  The JBN EM Console will display the resources that have been discovered and provides the ability to import or reject them.  We’ll see this shortly.</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nsole is the graphical user interface for the JBN EM system.  It is the main interface, but is complimented by the second user interface – the interactive command line shell (what we call the CLI).   The CLI will be covered in a future JBoss Network presentation; we will be walking through the GUI interface today.</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 high level, the Console provides the following capabilities:</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a screen that aggregates information from many of the other screens (recently triggered alerts, resource summaries, links to problem resources, etc).  In addition, the Dashboard shows you the list of discovered resources and allows you to import them into your inventory.</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You can browse the inventory, viewing the lists of resources and groups of resources you are currently managing.</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Individual “resource views” shows you the current status of a resource (or a group of resources).  It displays performance and health metric data, shows you the alerts triggered by the resource and allows you to execute control actions on the resourc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Finally, there is an Administration section of the GUI that allows you to add/remove/modify users and roles that are used by the JBN EM system.  You set up access control lists that authorize particular users to see particular resources and you can configure certain system configuration properties from here as well.</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0920" y="684360"/>
            <a:ext cx="455760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thing you normally do after installing JBN EM is to import the resources that were initially auto-discovered when the agents started up.  You select the resources that have been discovered and tell JBN EM to either import them into your inventory or ignore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reenshot you see here is the Dashboard’s auto-discovery section – it shows you that 4 servers have been discovered.  All four have been selected – by clicking the “import” button, you tell JBN EM that you want to manage those 4 servers.  By clicking the “remove” button, you remove those servers from the auto-discovery list and reject those resources from becoming part of the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side note – notice that JBN EM has discovered its own server and agent!  This shows you that JBN EM can monitor itself.</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50920" y="684360"/>
            <a:ext cx="4557600" cy="3417840"/>
          </a:xfrm>
          <a:prstGeom prst="rect">
            <a:avLst/>
          </a:prstGeom>
          <a:ln w="0">
            <a:noFill/>
          </a:ln>
        </p:spPr>
      </p:sp>
      <p:sp>
        <p:nvSpPr>
          <p:cNvPr id="19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inventory has been populated, you can really begin to do things.  The “Browse Resources” link will show you the list of resources in your inventory.  You can view individual resources or groups of them.  You can manually add new resources to the inventory using the links at the top-right. This page provides an interesting “chart view” that can be a great tool for viewing metric graphs belonging to several resourc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click on a resource name from this list, you will go to that resource’s individual resource view page – which is what the upcoming slides will walkthrough nex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me you have logged in and imported the initial list of discovered resourc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kip the Dashboard (the page that comes up when you log in), we will come back to it once we’ve looked at the Resource View since the Dashboard aggregates a lot of the information that you can see from all the different Resource View p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rowse Resources” and click through various lists of resources (don’t worry about groups and applications for now).</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witch to the chart view</a:t>
            </a:r>
            <a:r>
              <a:rPr b="0" lang="en-US" sz="1000" spc="-1" strike="noStrike">
                <a:solidFill>
                  <a:srgbClr val="000000"/>
                </a:solidFill>
                <a:latin typeface="Arial"/>
              </a:rPr>
              <a:t> to show thumb-nail images of the availability and some of the other indicators which are collected for each resourc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ke a note of the bread crumbs</a:t>
            </a:r>
            <a:r>
              <a:rPr b="0" lang="en-US" sz="1000" spc="-1" strike="noStrike">
                <a:solidFill>
                  <a:srgbClr val="000000"/>
                </a:solidFill>
                <a:latin typeface="Arial"/>
              </a:rPr>
              <a:t> at the top – this is a good point of reference in case you get “lost” in navigation.  The breadcrumbs tell you what resource or group of resources you are looking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50920" y="684360"/>
            <a:ext cx="4557600" cy="3417840"/>
          </a:xfrm>
          <a:prstGeom prst="rect">
            <a:avLst/>
          </a:prstGeom>
          <a:ln w="0">
            <a:noFill/>
          </a:ln>
        </p:spPr>
      </p:sp>
      <p:sp>
        <p:nvSpPr>
          <p:cNvPr id="19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vidual resource view provides several “tabs” of information.  A resource’s inventory metadata can be viewed by selecting the  “Inventory Tab”.  The information shown here includes</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ource type information (for example, what type of resource is it and where it is located)</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it contains (for example, JBossAS resources will list their EJB, JCA and JMS services)</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list of resources which contain it (for example, if it is a member of a group)</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ventory configuration properties that define things which are required for JBN EM to know how to communicate with and manage the resource.  The properties differ based on the resource.</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a platform resource</a:t>
            </a:r>
            <a:endParaRPr b="0" lang="en-US" sz="1200" spc="-1" strike="noStrike">
              <a:solidFill>
                <a:srgbClr val="000000"/>
              </a:solidFill>
              <a:latin typeface="Arial"/>
            </a:endParaRPr>
          </a:p>
          <a:p>
            <a:pPr marL="228600" indent="-228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the Inventory tab to see the data available along with the servers and services which are contained by the platform. </a:t>
            </a:r>
            <a:endParaRPr b="0" lang="en-US" sz="1200" spc="-1" strike="noStrike">
              <a:solidFill>
                <a:srgbClr val="000000"/>
              </a:solidFill>
              <a:latin typeface="Arial"/>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50920" y="684360"/>
            <a:ext cx="4557600" cy="3417840"/>
          </a:xfrm>
          <a:prstGeom prst="rect">
            <a:avLst/>
          </a:prstGeom>
          <a:ln w="0">
            <a:noFill/>
          </a:ln>
        </p:spPr>
      </p:sp>
      <p:sp>
        <p:nvSpPr>
          <p:cNvPr id="19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ing the “Monitor” tab will display the resource’s metric data in graph or tabular form.  The graphical data is shown over an adjustable time scale and the metric graphs that are shown can be added or removed as desired.  In addition to being able to view the metric data, you can also configure what metrics are to be collected and how often they are to be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 to Platform view and click on the platform JBN EM is hosted 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the indicator graphs to show availability and performance/health metrics such as CPU usage and free mem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bar beneath all the charts to highlight a particular time across all the char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metric name that appears above each graph to show a detailed grap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lick on the Metric Data sub-tab to show all collected metrics in a tabular form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figure button to list all available metrics, demonstrate turning on collection of CPU idle seconds, setting collection interval to 1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will provide an overview of what JBN EM is and what its high-level feature set consists of.  Second, we will walk through the steps required to install the software components and how to run them.  Then we discuss what it is that JBN EM manages – that is, we introduce the concept of the “topology” and how JBN EM models an inventory of your topology.  Lastly, we will demo the GUI Console and walk through some of the more interesting and exciting features provided by JBN E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0920" y="684360"/>
            <a:ext cx="4557600" cy="3417840"/>
          </a:xfrm>
          <a:prstGeom prst="rect">
            <a:avLst/>
          </a:prstGeom>
          <a:ln w="0">
            <a:noFill/>
          </a:ln>
        </p:spPr>
      </p:sp>
      <p:sp>
        <p:nvSpPr>
          <p:cNvPr id="20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 view’s “Control” tab allows you to execute control actions on the resource.  Note that only certain resource types have control actions; for example, there are no control actions available on platform resources, however, there are control actions “start”, “stop” and “restart” for JBoss application server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nteresting capability provided by JBN EM is the ability to schedule a one-time or recurring execution of control actions.  This is helpful if, for example, you want to recycle your application server every week – say, every Wednesday at mid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the JBoss 3.2 Server from the list of Serv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Control tab.</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 actions which are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 the New button under Control Action Schedule and show how actions can be scheduled (show “recur”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50920" y="684360"/>
            <a:ext cx="4557600" cy="3417840"/>
          </a:xfrm>
          <a:prstGeom prst="rect">
            <a:avLst/>
          </a:prstGeom>
          <a:ln w="0">
            <a:noFill/>
          </a:ln>
        </p:spPr>
      </p:sp>
      <p:sp>
        <p:nvSpPr>
          <p:cNvPr id="20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define specific conditions that you would like to be alerted of.  Alerts can be defined such that they are triggered when one or more metric values meet certain conditions or when a control action returns a specific status value.</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amples of alert definitions can b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 exceeding or dropping below a certain value, for example, JVM Free Memory drops below 5M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metric’s value has deviated dramatically from its norm (its baseline valu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trol action starts, succeeds or fails</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can be made conditional on more than one event generated by the resource – for example, when Free Memory &lt; 10MB and the number of active transactions is zero, since this is a good time to restart the server. Alerts can also be used to aggregate events – for example, generate an Alert if a particular event occurs 10 times in 1 hour.  There is a concept of a “recovery alert” that defines conditions which represents a healthy state.  Recovery alerts can be used to help reduce alert storms by allowing alerts to disable themselves once triggered and only when the resource becomes healthy again will the alert get re-enabl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an alert is triggered, three things can happe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The alert is recorded in the alert history for the resource that raised the alert</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n email can be sent to any JBN EM user, JBN EM role or an external email address</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 control action can be automatically executed</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to a JBoss 3.2 server resource</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the Alert tab</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it the New button.</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figure an alert for “JVM Free Memory &lt; 5MB” and enable actions “Each time conditions are exceeded or met”.  Hit OK.</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a notification to the jbnadmin user and a control action to restart the server.</a:t>
            </a:r>
            <a:endParaRPr b="0" lang="en-US" sz="800" spc="-1" strike="noStrike">
              <a:solidFill>
                <a:srgbClr val="000000"/>
              </a:solidFill>
              <a:latin typeface="Arial"/>
            </a:endParaRPr>
          </a:p>
          <a:p>
            <a:pPr marL="171360" indent="-17136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 back to the Alert tab and hit the Alerts button to show where the alert history would go.</a:t>
            </a:r>
            <a:endParaRPr b="0" lang="en-US" sz="800" spc="-1" strike="noStrike">
              <a:solidFill>
                <a:srgbClr val="000000"/>
              </a:solidFill>
              <a:latin typeface="Arial"/>
            </a:endParaRPr>
          </a:p>
          <a:p>
            <a:pPr marL="1713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50920" y="684360"/>
            <a:ext cx="4557600" cy="3417840"/>
          </a:xfrm>
          <a:prstGeom prst="rect">
            <a:avLst/>
          </a:prstGeom>
          <a:ln w="0">
            <a:noFill/>
          </a:ln>
        </p:spPr>
      </p:sp>
      <p:sp>
        <p:nvSpPr>
          <p:cNvPr id="20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ashboard is basically a summary page that aggregates many aspects of the resource views. It shows you recently triggered alerts, recently executed control actions and resources that have recently triggered alerts.  There’s also a section for your “favorite resources” – these are links to resources you want quick access to (perhaps they are your most important resources or they are resources that have recently been giving you problems and you want links to quickly get to their resource views).  Notice that this is also the part of the Console that showed you what resources have been auto-discovered – you import newly discovered resources from the Dashboa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w these portle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to Discovery: lists out the resources which JBN EM has automatically discovered in your environment. You can then choose whether to import them into the inventory or ignore them.</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vorite Resources: This is especially good for services, since you can end up with many hundreds of services installed. To save you the effort of navigating through the browse resources pages, you can just add resources you look at frequently to the dashboar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nt Alerts: Provides a list of alerts which have occurred recently. Can configure which resources to show alerts fo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rol Actions: Lists out control actions which have been executed recently.</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Resources: Lists resources for which an alert has been triggered, or for which a metric has gone ‘out of b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50920" y="684360"/>
            <a:ext cx="4557600" cy="3417840"/>
          </a:xfrm>
          <a:prstGeom prst="rect">
            <a:avLst/>
          </a:prstGeom>
          <a:ln w="0">
            <a:noFill/>
          </a:ln>
        </p:spPr>
      </p:sp>
      <p:sp>
        <p:nvSpPr>
          <p:cNvPr id="20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ministration page provides you the ability to manage JBN EM users and roles.  You can then control which users or roles have access to which resources in your inventory (for example, limiting only a certain set of users from being able to view certain resources). This mechanism enables very granular access control –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odify some of the server’s configuration settings, such as the default metric collection intervals, baseline calculation parameters, among other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Administration 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listing of users, listing of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new role to show the fine grained security – you’ll need to have defined some groups to be able to do things with rol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JBN EM by clicking on “Server Configur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figuration of default metric collection by clicking on “Monitoring Defaults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50920" y="684360"/>
            <a:ext cx="4557600" cy="3417840"/>
          </a:xfrm>
          <a:prstGeom prst="rect">
            <a:avLst/>
          </a:prstGeom>
          <a:ln w="0">
            <a:noFill/>
          </a:ln>
        </p:spPr>
      </p:sp>
      <p:sp>
        <p:nvSpPr>
          <p:cNvPr id="20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documentation can be found online.  The Console has a Help link that is always available.  In addition, the little red question mark is context sensitive and will send you to a relevant portion of the online documentation based on the page you are viewing at the tim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50920" y="684360"/>
            <a:ext cx="4557600" cy="3417840"/>
          </a:xfrm>
          <a:prstGeom prst="rect">
            <a:avLst/>
          </a:prstGeom>
          <a:ln w="0">
            <a:noFill/>
          </a:ln>
        </p:spPr>
      </p:sp>
      <p:sp>
        <p:nvSpPr>
          <p:cNvPr id="21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n overview of JBN EM and walked through some of its features and capabilities.  Though many of the features were glossed over in this presentation, the JBoss Network team will delve into more detail of those features in future presentations.  Hopefully, what questions you still have on JBN EM will be more fully addressed during those demos where specific features will be examined in detai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is a monitoring and administration system used to watch and control an environment of software and hardware components running in your enterprise.  The main goal of JBN EM is to provide the capability to monitor and manage JBoss’s JEMS product suite as well as other.  As we roll out new versions of JBN EM, watch for the introduction of additional administration and configuration capabilities that will enable you to have greater control over your JEMS stack running in your enterprise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 EM consists of two main parts – the server and its agents.  Typically, a single JBN EM server is running somewhere on the network with agents dispersed out in the network.  All agents are connected to the server in a hub-n-spoke model – agents transmit metric data they collect back to the server for further proces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persists its data (including inventory, metrics, alerts) to a database – which can be Postgres or Ora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dministrators can access the JBN EM system through two interfaces – one being a browser-based console and the other an interactive command line shell.  JBN EM allows administrators to create users and roles in order to control access to different parts of the inventory (one user may be authorized to view one platform but not another, as an examp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JBN EM server is a J2EE application which hosts the internal engine components as well as the GUI console webapp.  The server can run on Linux, Windows, Solaris and HP-UX platforms.  Some server components 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ventor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the necessary functionality for storage and retrieval of all inventory items in the JBN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topology includes things like platforms, servers and servi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topology includes grouping of physical resource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itoring</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 monitor platform statistics, JEMS products and is designed to be extensible for future produc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ndles incoming measurement data from JBN agent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s routines to query collected data from the JBN repository and correlate it among resourc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firing events for inbound measurement reports which are used by the JBN alerting engine to determine if alert criteria have been me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acts agents to execute control actions on behalf of end-us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the control schedule for all resources and resource groups in the system.</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blem Resource Identification &amp; Root Cause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ponsible for JBN’s auto-baselining facility which works to build a continuously updated model of the behavior of every measurement collected by the syst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intains a historical record of all out-of-bound metric occurrences in the system which are used to notify JBN users which resources are encountering problems and when the problems began occurr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vents &amp; Alerting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r all the monitoring, inventory, and control events that occur in the JBN environment.</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erts are triggered when certain conditions are met – triggered alerts can send emails, persistently log the events and issue control actions to resources for immediate corrective a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curity / Access Control</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enticates user logins via an LDAP repository or SQL data store and enforces JBN EM’s role-based system security policie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b GUI can be accessed via HTTP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with agents can also be secured via SS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igh Scalabilit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the JBN server is clustered, the High Scalability subsystem manages distributed object caches and ensures data consistency across the cluster using a lightweight broadcast messaging framework among all the members of the cluste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d by those enterprises with large numbers of monitored platforms and server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S introduces multiple servers – each agent is assigned one of the HS servers to communicate with.  Must have Oracle database to use HS.  HS is required only for large enterprises – defined as more than 25 managed platforms with up to 15 managed servers (these are rough numbers that depend on several factors such as how many and how often metrics are collected and the “beefiness” of the hardwar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runs in a standalone Java JVM (not  J2EE based).  There are some C-based libraries that are included to perform such things as process table scanning, monitoring of operating system metrics and the like.  The agent can run on Linux, Windows, Solaris, HP-UX and AIX platfor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 is broken up into subsystems such a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ment - oversees local metric collection activity, relays collected data to the JBN server</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 executes control actions</a:t>
            </a:r>
            <a:endParaRPr b="0" lang="en-US" sz="8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Discovery - runs auto-discovery scans, sends inventory reports to the JBN server </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plugin layer sits below the subsystems and is product-specific.  Product plugins play an important role in how JBN EM is product-agnostic.  These product plugins are installed on the agents and enable the agents to manage different products, even products from different vendors (e.g. Apache Web Server, JBoss Application Server, IIS Web Server, etc.).  When a subsystem needs to interact with a particular product, it asks the product’s plugin to do the work (for example, the measurement subsystem can ask the JBoss Product Plugin to collect metrics from a running JBossAS instance).  Plugins can be developed by our partners to extend the future capabilities of JBN EM.  JBoss, Inc. will offer additional plugins in the future as we develop them.</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 that plugins are co-located on the same machine as the products themselves, so the communications between plugin and product are relatively fast and secur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agent’s fault tolerance features help it survive in isolation.  That is, the agent does not need the server to be running in order for the agent to “do its thing”.  The agent will continue in “auto-pilot” even if it can’t communicate with the server.  In other words, the agent thinks like a “lemming” (you know that game right? </a:t>
            </a:r>
            <a:r>
              <a:rPr b="0" lang="en-US" sz="800" spc="-1" strike="noStrike">
                <a:solidFill>
                  <a:srgbClr val="000000"/>
                </a:solidFill>
                <a:latin typeface="Wingdings"/>
                <a:ea typeface="Wingdings"/>
              </a:rPr>
              <a:t></a:t>
            </a:r>
            <a:r>
              <a:rPr b="0" lang="en-US" sz="800" spc="-1" strike="noStrike">
                <a:solidFill>
                  <a:srgbClr val="000000"/>
                </a:solidFill>
                <a:latin typeface="Arial"/>
              </a:rPr>
              <a:t>).  After the server initially tells the agent what to do, the agent does it until it is told otherwise.</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verse is also true – the server can continue to run normally even if it can’t communicate with one or more of its agents.  After an agent comes back on line, the server ensures that the agent has all of its instructions so the agent can do its job.  If it does not, the server downloads instructions to the agent – for example, the server will tell the agent what metrics it is to start collecting and how often to collect those metrics.</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stall on UNIX, you simply download the appropriate installer for your platform and run the setup script.  You answer prompts along the way in order to configure the components you want to install (server/agent/sh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difference – on Windows, there is a graphical installer, as opposed to the text installer used on UN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r will give you several options with respect to the database that will be used by JBN EM.  Typically, you will want to use the embedded Postgres database.  If you have a strong desire to reuse one of your existing Oracle or Postgres databases, the installer provides options to allow you to do that.  If you choose to use an external database, obviously, you must install and configure it separately.  If you choose to use the embedded database, its installation and configuration are performed automatically for you.  This is true on both UNIX and Windows platform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talled file structure shown here is the same for both UNIX and Windows.  Also shown here are the Windows Services that are install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F21FBE9-A89F-40D5-8887-1930C6302E21}"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s://network.jboss.com/docs/jbnhelp/bin/view/JBN/Index.html" TargetMode="External"/><Relationship Id="rId2" Type="http://schemas.openxmlformats.org/officeDocument/2006/relationships/image" Target="../media/image11.pn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roduction and Walkthrough</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10" name="PlaceHolder 2"/>
          <p:cNvSpPr>
            <a:spLocks noGrp="1"/>
          </p:cNvSpPr>
          <p:nvPr>
            <p:ph/>
          </p:nvPr>
        </p:nvSpPr>
        <p:spPr>
          <a:xfrm>
            <a:off x="533520" y="1371240"/>
            <a:ext cx="7619760" cy="4419720"/>
          </a:xfrm>
          <a:prstGeom prst="rect">
            <a:avLst/>
          </a:prstGeom>
          <a:noFill/>
          <a:ln w="0">
            <a:noFill/>
          </a:ln>
        </p:spPr>
        <p:txBody>
          <a:bodyPr lIns="90000" rIns="90000" tIns="46800" bIns="46800" anchor="t">
            <a:normAutofit fontScale="99000"/>
          </a:bodyPr>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UNIX</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sh scripts</a:t>
            </a:r>
            <a:endParaRPr b="0" lang="en-US" sz="30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erver.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agent.sh</a:t>
            </a:r>
            <a:endParaRPr b="0" lang="en-US" sz="2700" spc="-1" strike="noStrike">
              <a:solidFill>
                <a:srgbClr val="000000"/>
              </a:solidFill>
              <a:latin typeface="Verdana"/>
            </a:endParaRPr>
          </a:p>
          <a:p>
            <a:pPr lvl="2" marL="1291680" indent="-391320">
              <a:lnSpc>
                <a:spcPct val="90000"/>
              </a:lnSpc>
              <a:spcBef>
                <a:spcPts val="6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jbn-shell.sh</a:t>
            </a:r>
            <a:endParaRPr b="0" lang="en-US" sz="2700" spc="-1" strike="noStrike">
              <a:solidFill>
                <a:srgbClr val="000000"/>
              </a:solidFill>
              <a:latin typeface="Verdana"/>
            </a:endParaRPr>
          </a:p>
          <a:p>
            <a:pPr marL="464760" indent="-464760">
              <a:lnSpc>
                <a:spcPct val="90000"/>
              </a:lnSpc>
              <a:spcBef>
                <a:spcPts val="8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unning on Windows</a:t>
            </a:r>
            <a:endParaRPr b="0" lang="en-US" sz="34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se the Windows Services to start/stop the server and agent.</a:t>
            </a:r>
            <a:endParaRPr b="0" lang="en-US" sz="3000" spc="-1" strike="noStrike">
              <a:solidFill>
                <a:srgbClr val="000000"/>
              </a:solidFill>
              <a:latin typeface="Verdana"/>
            </a:endParaRPr>
          </a:p>
          <a:p>
            <a:pPr lvl="1" marL="898560" indent="-431640">
              <a:lnSpc>
                <a:spcPct val="90000"/>
              </a:lnSpc>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shell.b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a:t>
            </a:r>
            <a:endParaRPr b="0" lang="en-US" sz="3400" spc="-1" strike="noStrike">
              <a:solidFill>
                <a:srgbClr val="000000"/>
              </a:solidFill>
              <a:latin typeface="Verdana"/>
            </a:endParaRPr>
          </a:p>
        </p:txBody>
      </p:sp>
      <p:sp>
        <p:nvSpPr>
          <p:cNvPr id="11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e or more host machines running one or more software products is known as your “topology of resources”.  JBN EM can inventory your topolog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 the world of JBN EM, your “inventory” includes only those resources that are to be managed</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Physical</a:t>
            </a:r>
            <a:endParaRPr b="0" lang="en-US" sz="30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 consists of one or more “resourc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physical resource can be described generically as one of these typ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s</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actual machines in your environment</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er” resources (see below)</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agent runs on each managed platform</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Product specific, such as a JBossAS instance or an Apache Web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osts “service” resources (see below)</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dividual components within a server</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amples are EJBs, JMS destinations</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Nomenclature - Logical</a:t>
            </a:r>
            <a:endParaRPr b="0" lang="en-US" sz="30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You can logically group your physical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patible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like resources (servers of type “JBoss 4.0”)</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xed Group</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 of different types (platform, servers and/or services)</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Grou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plicatio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Groups of services of different typ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opulating Inventory</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inventories your enterprise topology through its discovery mechanism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Process table scan</a:t>
            </a:r>
            <a:endParaRPr b="0" lang="en-US" sz="23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ndows Registry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a:t>
            </a:r>
            <a:endParaRPr b="0" lang="en-US" sz="2600" spc="-1" strike="noStrike">
              <a:solidFill>
                <a:srgbClr val="000000"/>
              </a:solidFill>
              <a:latin typeface="Verdana"/>
            </a:endParaRPr>
          </a:p>
          <a:p>
            <a:pPr lvl="2" marL="1305000" indent="-395280">
              <a:lnSpc>
                <a:spcPct val="90000"/>
              </a:lnSpc>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File scan</a:t>
            </a:r>
            <a:endParaRPr b="0" lang="en-US" sz="23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 scans can be scheduled</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wly discovered resources can be accepted (adding them to your inventory) or rejected (and thus ignored)</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N EM Console Overview</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Console is one of two interfaces for accessing the JBN EM functionality (the other being the CLI shell).</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shboard</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gregates various information into a single scree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auto-discovery resul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Brows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 View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hows information on resources found in inven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plays performance/health metrics </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ecutes control actions on resourc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you to configure and view alert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dministration</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N EM user and role managemen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ccess control definitions for both Console and CLI</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stem configuration</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Discovered Resources</a:t>
            </a:r>
            <a:endParaRPr b="0" lang="en-US" sz="3000" spc="-1" strike="noStrike">
              <a:solidFill>
                <a:srgbClr val="000000"/>
              </a:solidFill>
              <a:latin typeface="Verdana"/>
            </a:endParaRPr>
          </a:p>
        </p:txBody>
      </p:sp>
      <p:sp>
        <p:nvSpPr>
          <p:cNvPr id="12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shboard shows you resources that have been auto-discovered</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lect resources to import or rejec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orting resources tells JBN EM that you want to manage those resources</a:t>
            </a:r>
            <a:endParaRPr b="0" lang="en-US" sz="3000" spc="-1" strike="noStrike">
              <a:solidFill>
                <a:srgbClr val="000000"/>
              </a:solidFill>
              <a:latin typeface="Verdana"/>
            </a:endParaRPr>
          </a:p>
        </p:txBody>
      </p:sp>
      <p:pic>
        <p:nvPicPr>
          <p:cNvPr id="123" name="" descr=""/>
          <p:cNvPicPr/>
          <p:nvPr/>
        </p:nvPicPr>
        <p:blipFill>
          <a:blip r:embed="rId1"/>
          <a:stretch/>
        </p:blipFill>
        <p:spPr>
          <a:xfrm>
            <a:off x="2057400" y="3733920"/>
            <a:ext cx="5029200" cy="2576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rowsing Inventory List</a:t>
            </a:r>
            <a:endParaRPr b="0" lang="en-US" sz="3400" spc="-1" strike="noStrike">
              <a:solidFill>
                <a:srgbClr val="000000"/>
              </a:solidFill>
              <a:latin typeface="Verdana"/>
            </a:endParaRPr>
          </a:p>
        </p:txBody>
      </p:sp>
      <p:sp>
        <p:nvSpPr>
          <p:cNvPr id="125" name="PlaceHolder 2"/>
          <p:cNvSpPr>
            <a:spLocks noGrp="1"/>
          </p:cNvSpPr>
          <p:nvPr>
            <p:ph/>
          </p:nvPr>
        </p:nvSpPr>
        <p:spPr>
          <a:xfrm>
            <a:off x="595080" y="1185480"/>
            <a:ext cx="8001000" cy="178596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the inventory lis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physical and logical resourc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ually add resources to inventory</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on a resource to get its individual view</a:t>
            </a:r>
            <a:endParaRPr b="0" lang="en-US" sz="2600" spc="-1" strike="noStrike">
              <a:solidFill>
                <a:srgbClr val="000000"/>
              </a:solidFill>
              <a:latin typeface="Verdana"/>
            </a:endParaRPr>
          </a:p>
        </p:txBody>
      </p:sp>
      <p:pic>
        <p:nvPicPr>
          <p:cNvPr id="126" name="" descr=""/>
          <p:cNvPicPr/>
          <p:nvPr/>
        </p:nvPicPr>
        <p:blipFill>
          <a:blip r:embed="rId1"/>
          <a:stretch/>
        </p:blipFill>
        <p:spPr>
          <a:xfrm>
            <a:off x="762120" y="3048120"/>
            <a:ext cx="7543800" cy="3124080"/>
          </a:xfrm>
          <a:prstGeom prst="rect">
            <a:avLst/>
          </a:prstGeom>
          <a:ln w="9360">
            <a:solidFill>
              <a:srgbClr val="000000"/>
            </a:solidFill>
            <a:miter/>
          </a:ln>
        </p:spPr>
      </p:pic>
      <p:sp>
        <p:nvSpPr>
          <p:cNvPr id="127" name=""/>
          <p:cNvSpPr/>
          <p:nvPr/>
        </p:nvSpPr>
        <p:spPr>
          <a:xfrm>
            <a:off x="3962520" y="3276720"/>
            <a:ext cx="167616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Inventory</a:t>
            </a:r>
            <a:endParaRPr b="0" lang="en-US" sz="3400" spc="-1" strike="noStrike">
              <a:solidFill>
                <a:srgbClr val="000000"/>
              </a:solidFill>
              <a:latin typeface="Verdana"/>
            </a:endParaRPr>
          </a:p>
        </p:txBody>
      </p:sp>
      <p:sp>
        <p:nvSpPr>
          <p:cNvPr id="129" name="PlaceHolder 2"/>
          <p:cNvSpPr>
            <a:spLocks noGrp="1"/>
          </p:cNvSpPr>
          <p:nvPr>
            <p:ph/>
          </p:nvPr>
        </p:nvSpPr>
        <p:spPr>
          <a:xfrm>
            <a:off x="595440" y="1185480"/>
            <a:ext cx="8015040" cy="2243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inventory metadata for the resource. There are four categories:</a:t>
            </a:r>
            <a:endParaRPr b="0" lang="en-US" sz="21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information (e.g. Tomcat 4.1, Tomcat 5.0)</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it contains (e.g. services in the server).</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 of resources which contain it (e.g. groups).</a:t>
            </a:r>
            <a:endParaRPr b="0" lang="en-US" sz="1900" spc="-1" strike="noStrike">
              <a:solidFill>
                <a:srgbClr val="000000"/>
              </a:solidFill>
              <a:latin typeface="Verdana"/>
            </a:endParaRPr>
          </a:p>
          <a:p>
            <a:pPr lvl="1" marL="907920" indent="-436320">
              <a:lnSpc>
                <a:spcPct val="80000"/>
              </a:lnSpc>
              <a:spcBef>
                <a:spcPts val="47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information used by JBN EM (e.g. location of run.bat for JBos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0" name="" descr=""/>
          <p:cNvPicPr/>
          <p:nvPr/>
        </p:nvPicPr>
        <p:blipFill>
          <a:blip r:embed="rId1"/>
          <a:stretch/>
        </p:blipFill>
        <p:spPr>
          <a:xfrm>
            <a:off x="1523880" y="3505320"/>
            <a:ext cx="6172200" cy="2781360"/>
          </a:xfrm>
          <a:prstGeom prst="rect">
            <a:avLst/>
          </a:prstGeom>
          <a:ln w="0">
            <a:noFill/>
          </a:ln>
        </p:spPr>
      </p:pic>
      <p:sp>
        <p:nvSpPr>
          <p:cNvPr id="131" name=""/>
          <p:cNvSpPr/>
          <p:nvPr/>
        </p:nvSpPr>
        <p:spPr>
          <a:xfrm>
            <a:off x="2514600" y="3505320"/>
            <a:ext cx="1066680" cy="30456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Monitoring</a:t>
            </a:r>
            <a:endParaRPr b="0" lang="en-US" sz="3400" spc="-1" strike="noStrike">
              <a:solidFill>
                <a:srgbClr val="000000"/>
              </a:solidFill>
              <a:latin typeface="Verdana"/>
            </a:endParaRPr>
          </a:p>
        </p:txBody>
      </p:sp>
      <p:sp>
        <p:nvSpPr>
          <p:cNvPr id="133" name="PlaceHolder 2"/>
          <p:cNvSpPr>
            <a:spLocks noGrp="1"/>
          </p:cNvSpPr>
          <p:nvPr>
            <p:ph/>
          </p:nvPr>
        </p:nvSpPr>
        <p:spPr>
          <a:xfrm>
            <a:off x="595080" y="1185480"/>
            <a:ext cx="8001000" cy="277668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metric values collected on a resource over time.</a:t>
            </a:r>
            <a:endParaRPr b="0" lang="en-US" sz="21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metric values in three ways:</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level chart (defaul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tailed chart.</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aw metric data.</a:t>
            </a:r>
            <a:endParaRPr b="0" lang="en-US" sz="2000" spc="-1" strike="noStrike">
              <a:solidFill>
                <a:srgbClr val="000000"/>
              </a:solidFill>
              <a:latin typeface="Verdana"/>
            </a:endParaRPr>
          </a:p>
          <a:p>
            <a:pPr marL="469800" indent="-46980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configure which metrics are actually collected and how frequently they are collected (called the “metric collection interval”).</a:t>
            </a:r>
            <a:endParaRPr b="0" lang="en-US" sz="2100" spc="-1" strike="noStrike">
              <a:solidFill>
                <a:srgbClr val="000000"/>
              </a:solidFill>
              <a:latin typeface="Verdana"/>
            </a:endParaRPr>
          </a:p>
        </p:txBody>
      </p:sp>
      <p:pic>
        <p:nvPicPr>
          <p:cNvPr id="134" name="" descr=""/>
          <p:cNvPicPr/>
          <p:nvPr/>
        </p:nvPicPr>
        <p:blipFill>
          <a:blip r:embed="rId1"/>
          <a:stretch/>
        </p:blipFill>
        <p:spPr>
          <a:xfrm>
            <a:off x="914400" y="3886200"/>
            <a:ext cx="6988320" cy="2378160"/>
          </a:xfrm>
          <a:prstGeom prst="rect">
            <a:avLst/>
          </a:prstGeom>
          <a:ln w="0">
            <a:noFill/>
          </a:ln>
        </p:spPr>
      </p:pic>
      <p:sp>
        <p:nvSpPr>
          <p:cNvPr id="135" name=""/>
          <p:cNvSpPr/>
          <p:nvPr/>
        </p:nvSpPr>
        <p:spPr>
          <a:xfrm>
            <a:off x="974880" y="3909960"/>
            <a:ext cx="998280" cy="2840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ole Over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Q &amp; 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Control</a:t>
            </a:r>
            <a:endParaRPr b="0" lang="en-US" sz="3400" spc="-1" strike="noStrike">
              <a:solidFill>
                <a:srgbClr val="000000"/>
              </a:solidFill>
              <a:latin typeface="Verdana"/>
            </a:endParaRPr>
          </a:p>
        </p:txBody>
      </p:sp>
      <p:sp>
        <p:nvSpPr>
          <p:cNvPr id="137" name="PlaceHolder 2"/>
          <p:cNvSpPr>
            <a:spLocks noGrp="1"/>
          </p:cNvSpPr>
          <p:nvPr>
            <p:ph/>
          </p:nvPr>
        </p:nvSpPr>
        <p:spPr>
          <a:xfrm>
            <a:off x="595080" y="1185480"/>
            <a:ext cx="8001000" cy="21668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ows execution of particular actions on a resourc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nly available for certain resources. Available actions depend on resource type.</a:t>
            </a:r>
            <a:endParaRPr b="0" lang="en-US" sz="1900" spc="-1" strike="noStrike">
              <a:solidFill>
                <a:srgbClr val="000000"/>
              </a:solidFill>
              <a:latin typeface="Verdana"/>
            </a:endParaRPr>
          </a:p>
          <a:p>
            <a:pPr marL="469800" indent="-469800">
              <a:lnSpc>
                <a:spcPct val="80000"/>
              </a:lnSpc>
              <a:spcBef>
                <a:spcPts val="1188"/>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view history of previously executed control actions.</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 actions can be executed immediately or scheduled for later execution (may be recurring or non-recurring schedule).</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pic>
        <p:nvPicPr>
          <p:cNvPr id="138" name="" descr=""/>
          <p:cNvPicPr/>
          <p:nvPr/>
        </p:nvPicPr>
        <p:blipFill>
          <a:blip r:embed="rId1"/>
          <a:stretch/>
        </p:blipFill>
        <p:spPr>
          <a:xfrm>
            <a:off x="2476440" y="3200400"/>
            <a:ext cx="4191120" cy="2863800"/>
          </a:xfrm>
          <a:prstGeom prst="rect">
            <a:avLst/>
          </a:prstGeom>
          <a:ln w="0">
            <a:noFill/>
          </a:ln>
        </p:spPr>
      </p:pic>
      <p:sp>
        <p:nvSpPr>
          <p:cNvPr id="139" name=""/>
          <p:cNvSpPr/>
          <p:nvPr/>
        </p:nvSpPr>
        <p:spPr>
          <a:xfrm>
            <a:off x="380880" y="5486400"/>
            <a:ext cx="1295640" cy="546120"/>
          </a:xfrm>
          <a:prstGeom prst="borderCallout1">
            <a:avLst>
              <a:gd name="adj1" fmla="val 18750"/>
              <a:gd name="adj2" fmla="val -8333"/>
              <a:gd name="adj3" fmla="val 61916"/>
              <a:gd name="adj4" fmla="val 157597"/>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chedule future actions</a:t>
            </a:r>
            <a:endParaRPr b="0" lang="en-US" sz="1400" spc="-1" strike="noStrike">
              <a:solidFill>
                <a:srgbClr val="000000"/>
              </a:solidFill>
              <a:latin typeface="Arial"/>
            </a:endParaRPr>
          </a:p>
        </p:txBody>
      </p:sp>
      <p:sp>
        <p:nvSpPr>
          <p:cNvPr id="140" name=""/>
          <p:cNvSpPr/>
          <p:nvPr/>
        </p:nvSpPr>
        <p:spPr>
          <a:xfrm>
            <a:off x="7086600" y="4686480"/>
            <a:ext cx="1066680" cy="534960"/>
          </a:xfrm>
          <a:prstGeom prst="borderCallout1">
            <a:avLst>
              <a:gd name="adj1" fmla="val 18750"/>
              <a:gd name="adj2" fmla="val -8333"/>
              <a:gd name="adj3" fmla="val 21365"/>
              <a:gd name="adj4" fmla="val -207143"/>
            </a:avLst>
          </a:prstGeom>
          <a:solidFill>
            <a:srgbClr val="00ff00">
              <a:alpha val="30000"/>
            </a:srgbClr>
          </a:solidFill>
          <a:ln w="15840">
            <a:solidFill>
              <a:srgbClr val="00ff00"/>
            </a:solidFill>
            <a:miter/>
            <a:tailEnd len="lg"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execute action now</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523880" y="4191120"/>
            <a:ext cx="6172200" cy="2020680"/>
          </a:xfrm>
          <a:prstGeom prst="rect">
            <a:avLst/>
          </a:prstGeom>
          <a:ln w="0">
            <a:noFill/>
          </a:ln>
        </p:spPr>
      </p:pic>
      <p:sp>
        <p:nvSpPr>
          <p:cNvPr id="14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 - Alerts</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292896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eneral mechanism for responding to events.</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are triggered when specific conditions are met on:</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ne or more metric values, e.g. JVM Free mem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action status values, e.g. JBoss restart status. </a:t>
            </a:r>
            <a:endParaRPr b="0" lang="en-US" sz="1700" spc="-1" strike="noStrike">
              <a:solidFill>
                <a:srgbClr val="000000"/>
              </a:solidFill>
              <a:latin typeface="Verdana"/>
            </a:endParaRPr>
          </a:p>
          <a:p>
            <a:pPr marL="469800" indent="-469800">
              <a:lnSpc>
                <a:spcPct val="9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an Alert is trigger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t is stored in the Alert History.</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n email can be sent to JBNEM users, JBNEM roles or external email addresses.</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ly) a control action can be executed.</a:t>
            </a:r>
            <a:endParaRPr b="0" lang="en-US" sz="1700" spc="-1" strike="noStrike">
              <a:solidFill>
                <a:srgbClr val="000000"/>
              </a:solidFill>
              <a:latin typeface="Verdana"/>
            </a:endParaRPr>
          </a:p>
          <a:p>
            <a:pPr lvl="1" marL="907920" indent="-436320">
              <a:lnSpc>
                <a:spcPct val="9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s can be enabled or disabled individually or collectively.</a:t>
            </a:r>
            <a:endParaRPr b="0" lang="en-US" sz="1700" spc="-1" strike="noStrike">
              <a:solidFill>
                <a:srgbClr val="000000"/>
              </a:solidFill>
              <a:latin typeface="Verdana"/>
            </a:endParaRPr>
          </a:p>
        </p:txBody>
      </p:sp>
      <p:sp>
        <p:nvSpPr>
          <p:cNvPr id="144" name=""/>
          <p:cNvSpPr/>
          <p:nvPr/>
        </p:nvSpPr>
        <p:spPr>
          <a:xfrm>
            <a:off x="128520" y="4672080"/>
            <a:ext cx="1219320" cy="571320"/>
          </a:xfrm>
          <a:prstGeom prst="borderCallout1">
            <a:avLst>
              <a:gd name="adj1" fmla="val 18750"/>
              <a:gd name="adj2" fmla="val -8333"/>
              <a:gd name="adj3" fmla="val 21111"/>
              <a:gd name="adj4" fmla="val 177995"/>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for alert history</a:t>
            </a:r>
            <a:endParaRPr b="0" lang="en-US" sz="1400" spc="-1" strike="noStrike">
              <a:solidFill>
                <a:srgbClr val="000000"/>
              </a:solidFill>
              <a:latin typeface="Arial"/>
            </a:endParaRPr>
          </a:p>
        </p:txBody>
      </p:sp>
      <p:sp>
        <p:nvSpPr>
          <p:cNvPr id="145" name=""/>
          <p:cNvSpPr/>
          <p:nvPr/>
        </p:nvSpPr>
        <p:spPr>
          <a:xfrm>
            <a:off x="7835760" y="4684680"/>
            <a:ext cx="1143000" cy="942840"/>
          </a:xfrm>
          <a:prstGeom prst="borderCallout1">
            <a:avLst>
              <a:gd name="adj1" fmla="val 18750"/>
              <a:gd name="adj2" fmla="val -8333"/>
              <a:gd name="adj3" fmla="val 12291"/>
              <a:gd name="adj4" fmla="val -295416"/>
            </a:avLst>
          </a:prstGeom>
          <a:solidFill>
            <a:srgbClr val="00ff00">
              <a:alpha val="30000"/>
            </a:srgbClr>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lick here to define new alert defini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20908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ows you to defin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users and ro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ess 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lobal server configuration settings</a:t>
            </a:r>
            <a:endParaRPr b="0" lang="en-US" sz="2600" spc="-1" strike="noStrike">
              <a:solidFill>
                <a:srgbClr val="000000"/>
              </a:solidFill>
              <a:latin typeface="Verdana"/>
            </a:endParaRPr>
          </a:p>
        </p:txBody>
      </p:sp>
      <p:pic>
        <p:nvPicPr>
          <p:cNvPr id="150" name="" descr=""/>
          <p:cNvPicPr/>
          <p:nvPr/>
        </p:nvPicPr>
        <p:blipFill>
          <a:blip r:embed="rId1"/>
          <a:stretch/>
        </p:blipFill>
        <p:spPr>
          <a:xfrm>
            <a:off x="838080" y="3276720"/>
            <a:ext cx="7467840" cy="2708280"/>
          </a:xfrm>
          <a:prstGeom prst="rect">
            <a:avLst/>
          </a:prstGeom>
          <a:ln w="9360">
            <a:solidFill>
              <a:srgbClr val="000000"/>
            </a:solidFill>
            <a:miter/>
          </a:ln>
        </p:spPr>
      </p:pic>
      <p:sp>
        <p:nvSpPr>
          <p:cNvPr id="151" name=""/>
          <p:cNvSpPr/>
          <p:nvPr/>
        </p:nvSpPr>
        <p:spPr>
          <a:xfrm>
            <a:off x="5780160" y="3544920"/>
            <a:ext cx="1218960" cy="38088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cumentation available online at:</a:t>
            </a:r>
            <a:br>
              <a:rPr sz="3000"/>
            </a:br>
            <a:r>
              <a:rPr b="0" lang="en-US" sz="2800" spc="-1" strike="noStrike" u="sng">
                <a:solidFill>
                  <a:srgbClr val="336699"/>
                </a:solidFill>
                <a:uFillTx/>
                <a:latin typeface="Verdana"/>
                <a:hlinkClick r:id="rId1"/>
              </a:rPr>
              <a:t>https://network.jboss.com/docs/jbnhelp/bin/view/JBN/Index.html</a:t>
            </a:r>
            <a:endParaRPr b="0" lang="en-US" sz="2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ext sensitive help for each page is also available.</a:t>
            </a:r>
            <a:endParaRPr b="0" lang="en-US" sz="3000" spc="-1" strike="noStrike">
              <a:solidFill>
                <a:srgbClr val="000000"/>
              </a:solidFill>
              <a:latin typeface="Verdana"/>
            </a:endParaRPr>
          </a:p>
        </p:txBody>
      </p:sp>
      <p:pic>
        <p:nvPicPr>
          <p:cNvPr id="154" name="" descr=""/>
          <p:cNvPicPr/>
          <p:nvPr/>
        </p:nvPicPr>
        <p:blipFill>
          <a:blip r:embed="rId2"/>
          <a:stretch/>
        </p:blipFill>
        <p:spPr>
          <a:xfrm>
            <a:off x="1295280" y="3962520"/>
            <a:ext cx="6553440" cy="1468440"/>
          </a:xfrm>
          <a:prstGeom prst="rect">
            <a:avLst/>
          </a:prstGeom>
          <a:ln w="0">
            <a:noFill/>
          </a:ln>
        </p:spPr>
      </p:pic>
      <p:sp>
        <p:nvSpPr>
          <p:cNvPr id="155" name=""/>
          <p:cNvSpPr/>
          <p:nvPr/>
        </p:nvSpPr>
        <p:spPr>
          <a:xfrm>
            <a:off x="4495680" y="5562720"/>
            <a:ext cx="1981440" cy="304560"/>
          </a:xfrm>
          <a:prstGeom prst="borderCallout1">
            <a:avLst>
              <a:gd name="adj1" fmla="val 18750"/>
              <a:gd name="adj2" fmla="val -8333"/>
              <a:gd name="adj3" fmla="val -107814"/>
              <a:gd name="adj4" fmla="val 143111"/>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ext sensitive help</a:t>
            </a:r>
            <a:endParaRPr b="0" lang="en-US" sz="1400" spc="-1" strike="noStrike">
              <a:solidFill>
                <a:srgbClr val="000000"/>
              </a:solidFill>
              <a:latin typeface="Arial"/>
            </a:endParaRPr>
          </a:p>
        </p:txBody>
      </p:sp>
      <p:sp>
        <p:nvSpPr>
          <p:cNvPr id="156" name=""/>
          <p:cNvSpPr/>
          <p:nvPr/>
        </p:nvSpPr>
        <p:spPr>
          <a:xfrm>
            <a:off x="5575320" y="4406760"/>
            <a:ext cx="1143000" cy="381240"/>
          </a:xfrm>
          <a:prstGeom prst="ellipse">
            <a:avLst/>
          </a:prstGeom>
          <a:solidFill>
            <a:srgbClr val="00ff00">
              <a:alpha val="15000"/>
            </a:srgbClr>
          </a:solidFill>
          <a:ln w="255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2209680" y="5181480"/>
            <a:ext cx="1981440" cy="304920"/>
          </a:xfrm>
          <a:prstGeom prst="borderCallout1">
            <a:avLst>
              <a:gd name="adj1" fmla="val 18750"/>
              <a:gd name="adj2" fmla="val -8333"/>
              <a:gd name="adj3" fmla="val -138541"/>
              <a:gd name="adj4" fmla="val 170833"/>
            </a:avLst>
          </a:prstGeom>
          <a:solidFill>
            <a:srgbClr val="ccffcc"/>
          </a:solidFill>
          <a:ln w="9360">
            <a:solidFill>
              <a:srgbClr val="00ff00"/>
            </a:solidFill>
            <a:miter/>
            <a:headEnd len="med" type="triangle" w="lg"/>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o to online hel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09120" y="1600200"/>
            <a:ext cx="8001000" cy="3276720"/>
          </a:xfrm>
          <a:prstGeom prst="rect">
            <a:avLst/>
          </a:prstGeom>
          <a:noFill/>
          <a:ln w="0">
            <a:noFill/>
          </a:ln>
        </p:spPr>
        <p:txBody>
          <a:bodyPr lIns="90000" rIns="90000" tIns="46800" bIns="46800" anchor="t">
            <a:normAutofit/>
          </a:bodyPr>
          <a:p>
            <a:pPr marL="469800" indent="-46980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a:t>
            </a:r>
            <a:endParaRPr b="0" lang="en-US" sz="2400" spc="-1" strike="noStrike">
              <a:solidFill>
                <a:srgbClr val="000000"/>
              </a:solidFill>
              <a:latin typeface="Verdana"/>
            </a:endParaRPr>
          </a:p>
          <a:p>
            <a:pPr lvl="1" marL="907920" indent="-436320">
              <a:lnSpc>
                <a:spcPct val="80000"/>
              </a:lnSpc>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hopefully be able to more completely answer your questions</a:t>
            </a:r>
            <a:endParaRPr b="0" lang="en-US" sz="2400" spc="-1" strike="noStrike">
              <a:solidFill>
                <a:srgbClr val="000000"/>
              </a:solidFill>
              <a:latin typeface="Verdana"/>
            </a:endParaRPr>
          </a:p>
          <a:p>
            <a:pPr lvl="1" marL="90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9"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pic>
        <p:nvPicPr>
          <p:cNvPr id="160" name="" descr=""/>
          <p:cNvPicPr/>
          <p:nvPr/>
        </p:nvPicPr>
        <p:blipFill>
          <a:blip r:embed="rId1"/>
          <a:stretch/>
        </p:blipFill>
        <p:spPr>
          <a:xfrm>
            <a:off x="4049640" y="5029200"/>
            <a:ext cx="1044720" cy="93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 EM is a monitoring and administration system</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 and control JEMS, other products</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 architectur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e server collecting data from agents running on each monitored platform (hub-n-spoke mode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base persists inventory metadata, collected metrics and alert information</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ser interface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onsole – a web-based GUI</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JBN EM CLI – an interactive command line shel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rs/roles provide access control</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Server</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 J2EE app with a Web GUI</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uns on Linux, Windows, Solaris, and HP/UX</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entor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ysical and logical topology</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nitoring</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forms, JEMS products</a:t>
            </a:r>
            <a:endParaRPr b="0" lang="en-US" sz="18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tensible for future products</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d-hoc and scheduled</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lem Resource Identification &amp; Root Cause </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lines - a rolling snapshot of normal system behavior</a:t>
            </a:r>
            <a:endParaRPr b="0" lang="en-US" sz="18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vents &amp; Alerting </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urity / Access Control</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Rol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S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igh Scalability</a:t>
            </a:r>
            <a:endParaRPr b="0" lang="en-US" sz="2000" spc="-1" strike="noStrike">
              <a:solidFill>
                <a:srgbClr val="000000"/>
              </a:solidFill>
              <a:latin typeface="Verdana"/>
            </a:endParaRPr>
          </a:p>
          <a:p>
            <a:pPr lvl="1" marL="907920" indent="-436320">
              <a:lnSpc>
                <a:spcPct val="80000"/>
              </a:lnSpc>
              <a:spcBef>
                <a:spcPts val="4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an be enabled for increased scalabil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 - Agent</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ndalone Java app with small portions of portable C code in places where Java does not yet reach.</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uns on Linux, Windows, Solaris, HP/UX, and AIX.</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gent has pluggable subsystem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asur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uto-discovery</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lugin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its below the subsystem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ubsystem delegates to plugin when a subsystem needs to interact with a particular product (for example to gather a metric or restart a servic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lugins can be added or removed as you decide which products you want to manage or ignor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ault Toleran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gent continues to function normally even if the JBN EM server is temporarily unavailable. Collected metrics will be spooled to disk. When the JBN server comes back online, the agent transmits all spooled data. </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UNIX Installation</a:t>
            </a:r>
            <a:endParaRPr b="0" lang="en-US" sz="30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wnload the appropriate server installation package for your platform, run the setup script and answer the prompts</a:t>
            </a:r>
            <a:endParaRPr b="0" lang="en-US" sz="2800" spc="-1" strike="noStrike">
              <a:solidFill>
                <a:srgbClr val="000000"/>
              </a:solidFill>
              <a:latin typeface="Verdana"/>
            </a:endParaRPr>
          </a:p>
          <a:p>
            <a:pPr lvl="1" marL="907920" indent="-436320">
              <a:spcBef>
                <a:spcPts val="7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asic install can be performed by executing “setup.sh –full” and choosing which components you want to install: the server, agent and/or shell</a:t>
            </a:r>
            <a:endParaRPr b="0" lang="en-US" sz="2800" spc="-1" strike="noStrike">
              <a:solidFill>
                <a:srgbClr val="000000"/>
              </a:solidFill>
              <a:latin typeface="Verdana"/>
            </a:endParaRPr>
          </a:p>
          <a:p>
            <a:pPr lvl="1" marL="90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7786440" cy="5145120"/>
          </a:xfrm>
          <a:prstGeom prst="rect">
            <a:avLst/>
          </a:prstGeom>
          <a:noFill/>
          <a:ln w="0">
            <a:noFill/>
          </a:ln>
        </p:spPr>
        <p:txBody>
          <a:bodyPr lIns="90000" rIns="90000" tIns="46800" bIns="46800" anchor="t">
            <a:normAutofit fontScale="99000"/>
          </a:bodyPr>
          <a:p>
            <a:pPr marL="464760" indent="-46476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ndows Installation</a:t>
            </a:r>
            <a:endParaRPr b="0" lang="en-US" sz="26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wnload the appropriate installation package for your platform, run the graphical installer and follow the wizard</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installer allows you to choose which components you want to install: the server, agent and/or shell</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will be installed for the server and agent so they can be started automatically</a:t>
            </a:r>
            <a:endParaRPr b="0" lang="en-US" sz="2400" spc="-1" strike="noStrike">
              <a:solidFill>
                <a:srgbClr val="000000"/>
              </a:solidFill>
              <a:latin typeface="Verdana"/>
            </a:endParaRPr>
          </a:p>
          <a:p>
            <a:pPr lvl="1" marL="898560" indent="-43164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Windows Service for the database will be installed if you elect to use the embedded database</a:t>
            </a:r>
            <a:endParaRPr b="0" lang="en-US" sz="2400" spc="-1" strike="noStrike">
              <a:solidFill>
                <a:srgbClr val="000000"/>
              </a:solidFill>
              <a:latin typeface="Verdana"/>
            </a:endParaRPr>
          </a:p>
          <a:p>
            <a:pPr lvl="1" marL="898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sp>
        <p:nvSpPr>
          <p:cNvPr id="105" name="PlaceHolder 2"/>
          <p:cNvSpPr>
            <a:spLocks noGrp="1"/>
          </p:cNvSpPr>
          <p:nvPr>
            <p:ph/>
          </p:nvPr>
        </p:nvSpPr>
        <p:spPr>
          <a:xfrm>
            <a:off x="595440" y="1185840"/>
            <a:ext cx="771048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atabas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Postgr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rnal Orac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he embedded Postgres, the installer will install it for you</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you want to use an external database, you must install it separ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stallation</a:t>
            </a:r>
            <a:endParaRPr b="0" lang="en-US" sz="3400" spc="-1" strike="noStrike">
              <a:solidFill>
                <a:srgbClr val="000000"/>
              </a:solidFill>
              <a:latin typeface="Verdana"/>
            </a:endParaRPr>
          </a:p>
        </p:txBody>
      </p:sp>
      <p:pic>
        <p:nvPicPr>
          <p:cNvPr id="107" name="" descr=""/>
          <p:cNvPicPr/>
          <p:nvPr/>
        </p:nvPicPr>
        <p:blipFill>
          <a:blip r:embed="rId1"/>
          <a:stretch/>
        </p:blipFill>
        <p:spPr>
          <a:xfrm>
            <a:off x="2971800" y="1600200"/>
            <a:ext cx="2819520" cy="1574640"/>
          </a:xfrm>
          <a:prstGeom prst="rect">
            <a:avLst/>
          </a:prstGeom>
          <a:ln w="0">
            <a:noFill/>
          </a:ln>
        </p:spPr>
      </p:pic>
      <p:pic>
        <p:nvPicPr>
          <p:cNvPr id="108" name="" descr=""/>
          <p:cNvPicPr/>
          <p:nvPr/>
        </p:nvPicPr>
        <p:blipFill>
          <a:blip r:embed="rId2"/>
          <a:stretch/>
        </p:blipFill>
        <p:spPr>
          <a:xfrm>
            <a:off x="609480" y="3581280"/>
            <a:ext cx="7799400" cy="2298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9T17:52:25Z</dcterms:created>
  <dc:creator>John Mazzitelli</dc:creator>
  <dc:description/>
  <dc:language>en-US</dc:language>
  <cp:lastModifiedBy>John Mazzitelli</cp:lastModifiedBy>
  <dcterms:modified xsi:type="dcterms:W3CDTF">2005-08-02T16:51:42Z</dcterms:modified>
  <cp:revision>110</cp:revision>
  <dc:subject/>
  <dc:title>JBoss Network Enterprise Management</dc:title>
</cp:coreProperties>
</file>